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23AF-848C-4006-9BDD-D541D3E3B3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139D-90C7-42CC-B5E7-5732604A6D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2C3-8800-4A92-8EF1-2F35EF88DD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B61-833A-4B53-897E-8C0EC219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8C1-24EC-4ACE-8B87-73E524D3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B73-1CDD-4855-8CD7-629F1792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716-04D2-4493-9EF5-C9C133C4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D32-3D7C-4491-A86E-55D30849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2AC-181F-4099-A962-EEE504F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C81-72B7-4C52-AB38-8E091691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688-7243-4BC8-827D-94737DD3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825-CB71-4545-94B0-F50B8D0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3CC-ED1B-4478-A1E8-55EEA11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567-87B9-410F-BFC1-393AE77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F27-5106-49C2-8AF0-AE27805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02C-C87D-455F-BD06-386C18E6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69800" y="195120"/>
          <a:ext cx="8026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5120"/>
                    <a:ext cx="8026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30040" y="469800"/>
          <a:ext cx="8736120" cy="69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30040" y="469800"/>
          <a:ext cx="873612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8200" y="488880"/>
          <a:ext cx="7777080" cy="678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488880"/>
                    <a:ext cx="7777080" cy="678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7880"/>
          <a:ext cx="8521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7880"/>
                    <a:ext cx="8521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30040" y="407880"/>
          <a:ext cx="87980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07880"/>
                    <a:ext cx="87980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39760" y="576360"/>
          <a:ext cx="8753400" cy="58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76360"/>
                    <a:ext cx="875340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69800" y="444600"/>
          <a:ext cx="883440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568440"/>
          <a:ext cx="8053200" cy="53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568440"/>
                    <a:ext cx="80532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38040" y="266760"/>
          <a:ext cx="859320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66760"/>
                    <a:ext cx="859320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5-12T13:31:32Z</dcterms:modified>
  <cp:revision>39</cp:revision>
  <dc:subject/>
  <dc:title>Sin título de diapositiva</dc:title>
</cp:coreProperties>
</file>