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559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7: Búsqueda y Orden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1920" y="0"/>
            <a:ext cx="2955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9720" y="730080"/>
            <a:ext cx="4976640" cy="373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5960" y="4707000"/>
            <a:ext cx="50241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12200"/>
            <a:ext cx="29559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1920" y="9412200"/>
            <a:ext cx="2955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0052A-F938-4596-9C5B-2F3A4E055BB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0"/>
            <a:ext cx="29559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7: Búsqueda y Orden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0" y="9412200"/>
            <a:ext cx="29559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3841920" y="9412200"/>
            <a:ext cx="2955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D954B-6EC6-4E7A-899B-EDD3459F450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909720" y="730080"/>
            <a:ext cx="4976640" cy="373248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85960" y="4707000"/>
            <a:ext cx="50241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29559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7: Búsqueda y Orden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9412200"/>
            <a:ext cx="29559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841920" y="9412200"/>
            <a:ext cx="2955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7C131-55FD-400A-B930-3F05D580D3B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09720" y="730080"/>
            <a:ext cx="4976640" cy="37324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885960" y="4707000"/>
            <a:ext cx="50241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366A-BF90-4C53-ABCC-64A77750F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8B4D-E19D-475D-94D1-8B0E04DFB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F71D-59C8-4D9C-B51D-39FC7D7E0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3E6C-AAD9-467C-96E4-C76591EF0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C79C-2060-47B7-B8A7-76F16E8E7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0E58-F39E-4870-B6CD-4AA7A4E2E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9D32-B96F-4F8E-88BC-AE80FE498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55B5-551C-45B5-A10E-9D5BEE1B4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CBAE-9C53-47CC-967B-DD24700F3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813F-BC99-4800-B119-2DF48F8B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3678-5FD3-4809-84BF-37D1110A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14B6-E9E0-4FAE-884C-EB6A65EB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6E7A3-1983-409C-B411-D8FA6B51D1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4"/>
          <p:cNvGraphicFramePr/>
          <p:nvPr/>
        </p:nvGraphicFramePr>
        <p:xfrm>
          <a:off x="469800" y="444600"/>
          <a:ext cx="8834400" cy="662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44600"/>
                    <a:ext cx="8834400" cy="662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4"/>
          <p:cNvGraphicFramePr/>
          <p:nvPr/>
        </p:nvGraphicFramePr>
        <p:xfrm>
          <a:off x="469800" y="195120"/>
          <a:ext cx="8026560" cy="679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195120"/>
                    <a:ext cx="8026560" cy="67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230040" y="469800"/>
          <a:ext cx="8736120" cy="698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469800"/>
                    <a:ext cx="8736120" cy="698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2"/>
          <p:cNvGraphicFramePr/>
          <p:nvPr/>
        </p:nvGraphicFramePr>
        <p:xfrm>
          <a:off x="230040" y="469800"/>
          <a:ext cx="8736120" cy="697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469800"/>
                    <a:ext cx="8736120" cy="697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808200" y="488880"/>
          <a:ext cx="7777080" cy="678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8200" y="488880"/>
                    <a:ext cx="7777080" cy="678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444600" y="407880"/>
          <a:ext cx="8521560" cy="679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07880"/>
                    <a:ext cx="8521560" cy="67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2"/>
          <p:cNvGraphicFramePr/>
          <p:nvPr/>
        </p:nvGraphicFramePr>
        <p:xfrm>
          <a:off x="230040" y="407880"/>
          <a:ext cx="8798040" cy="784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407880"/>
                    <a:ext cx="8798040" cy="784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2"/>
          <p:cNvGraphicFramePr/>
          <p:nvPr/>
        </p:nvGraphicFramePr>
        <p:xfrm>
          <a:off x="635040" y="635040"/>
          <a:ext cx="8051760" cy="558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40" y="635040"/>
                    <a:ext cx="8051760" cy="55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2"/>
          <p:cNvGraphicFramePr/>
          <p:nvPr/>
        </p:nvGraphicFramePr>
        <p:xfrm>
          <a:off x="239760" y="576360"/>
          <a:ext cx="8753400" cy="584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576360"/>
                    <a:ext cx="8753400" cy="584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469800" y="444600"/>
          <a:ext cx="8834400" cy="6630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44600"/>
                    <a:ext cx="8834400" cy="66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514440" y="568440"/>
          <a:ext cx="8053200" cy="5362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568440"/>
                    <a:ext cx="8053200" cy="53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469800" y="444600"/>
          <a:ext cx="8834400" cy="662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44600"/>
                    <a:ext cx="8834400" cy="662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338040" y="266760"/>
          <a:ext cx="8593200" cy="640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8040" y="266760"/>
                    <a:ext cx="8593200" cy="64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4"/>
          <p:cNvGraphicFramePr/>
          <p:nvPr/>
        </p:nvGraphicFramePr>
        <p:xfrm>
          <a:off x="658800" y="511200"/>
          <a:ext cx="8121600" cy="59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" y="511200"/>
                    <a:ext cx="81216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4"/>
          <p:cNvGraphicFramePr/>
          <p:nvPr/>
        </p:nvGraphicFramePr>
        <p:xfrm>
          <a:off x="514440" y="311040"/>
          <a:ext cx="8585280" cy="633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311040"/>
                    <a:ext cx="8585280" cy="63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514440" y="311040"/>
          <a:ext cx="8585280" cy="633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311040"/>
                    <a:ext cx="8585280" cy="63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2"/>
          <p:cNvGraphicFramePr/>
          <p:nvPr/>
        </p:nvGraphicFramePr>
        <p:xfrm>
          <a:off x="514440" y="311040"/>
          <a:ext cx="8585280" cy="633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311040"/>
                    <a:ext cx="8585280" cy="63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1:23:41Z</dcterms:created>
  <dc:creator>jalvarez</dc:creator>
  <dc:description/>
  <dc:language>en-US</dc:language>
  <cp:lastModifiedBy>jalvarez</cp:lastModifiedBy>
  <cp:lastPrinted>2006-05-31T13:28:42Z</cp:lastPrinted>
  <dcterms:modified xsi:type="dcterms:W3CDTF">2011-05-12T13:31:32Z</dcterms:modified>
  <cp:revision>39</cp:revision>
  <dc:subject/>
  <dc:title>Sin título de diapositiva</dc:title>
</cp:coreProperties>
</file>