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7D9-1CDB-4B91-96E3-E6499C45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72D-5099-40C9-AD2E-FF72B10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5B1-A5EE-40D5-8F9F-DAEF46D6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2E5-8DA3-4E21-8E76-82437DF0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1DE-BB23-46B8-9CBB-1F0BEA7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0AE1-4E05-498A-919A-DC2C672D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002-C16E-4D55-BB19-FBB45E9D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B53-4E2E-4254-AD9D-505FC54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5F2-9E89-4B8F-A412-1D8EA71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649C-0B07-4A22-BFE7-B073C933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315-3F4D-4F8C-8598-40E4A451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5DD-A889-4E51-B2A4-8A1D589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4798-D597-402E-9876-694BA880D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131760" y="263520"/>
          <a:ext cx="8813880" cy="692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" y="263520"/>
                    <a:ext cx="8813880" cy="69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304920" y="271440"/>
          <a:ext cx="8665920" cy="668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539640" y="230040"/>
          <a:ext cx="8521920" cy="798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30040"/>
                    <a:ext cx="8521920" cy="798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304920" y="271440"/>
          <a:ext cx="86659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90360" y="165240"/>
          <a:ext cx="887256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165240"/>
                    <a:ext cx="887256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173160" y="230040"/>
          <a:ext cx="8888400" cy="672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30040"/>
                    <a:ext cx="8888400" cy="672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181080" y="469800"/>
          <a:ext cx="882324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2"/>
          <p:cNvGraphicFramePr/>
          <p:nvPr/>
        </p:nvGraphicFramePr>
        <p:xfrm>
          <a:off x="403200" y="469800"/>
          <a:ext cx="8634600" cy="768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634600" cy="768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85640"/>
          <a:ext cx="8575560" cy="685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85640"/>
                    <a:ext cx="8575560" cy="68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700200" y="420840"/>
          <a:ext cx="8154720" cy="660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420840"/>
                    <a:ext cx="8154720" cy="66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11120" y="420840"/>
          <a:ext cx="8502840" cy="65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420840"/>
                    <a:ext cx="8502840" cy="65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304920" y="271440"/>
          <a:ext cx="8665920" cy="668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1440"/>
                    <a:ext cx="8665920" cy="66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10T12:45:34Z</dcterms:modified>
  <cp:revision>200</cp:revision>
  <dc:subject/>
  <dc:title>Sin título de diapositiva</dc:title>
</cp:coreProperties>
</file>