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A56-5931-47FF-8B4F-7FE64F85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7EC-443C-4891-8A67-CE9F07D7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C1D-B2E7-492E-AA16-407E876F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E6D-8A80-4912-8405-9FFEBFE1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03B-D03B-4BFA-9F71-22EA0C36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EEA0-EE1A-4B4B-9EF0-57FE5D62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DCB7-F9BD-4E66-AA5D-6AC88F7B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95F-5241-46CB-99BC-78CDB239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F44-AC58-4A72-A1FF-CD62F06D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DEB-B109-44E4-A8A5-99F99885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4763-B1B1-4376-A4E0-6FB5932B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73D-6E2A-48D9-94A8-965B0685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C88B-6325-4452-AAD5-F08CFBF61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131760" y="263520"/>
          <a:ext cx="8813880" cy="6927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760" y="263520"/>
                    <a:ext cx="8813880" cy="69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304920" y="271440"/>
          <a:ext cx="8665920" cy="668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1440"/>
                    <a:ext cx="8665920" cy="66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173160" y="230040"/>
          <a:ext cx="8888400" cy="672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60" y="230040"/>
                    <a:ext cx="8888400" cy="672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539640" y="230040"/>
          <a:ext cx="8521920" cy="798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30040"/>
                    <a:ext cx="8521920" cy="798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304920" y="271440"/>
          <a:ext cx="8665920" cy="668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1440"/>
                    <a:ext cx="8665920" cy="66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90360" y="165240"/>
          <a:ext cx="8872560" cy="67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165240"/>
                    <a:ext cx="8872560" cy="67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173160" y="230040"/>
          <a:ext cx="8888400" cy="672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60" y="230040"/>
                    <a:ext cx="8888400" cy="672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173160" y="230040"/>
          <a:ext cx="8888400" cy="672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60" y="230040"/>
                    <a:ext cx="8888400" cy="672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181080" y="469800"/>
          <a:ext cx="882324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469800"/>
                    <a:ext cx="882324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"/>
          <p:cNvGraphicFramePr/>
          <p:nvPr/>
        </p:nvGraphicFramePr>
        <p:xfrm>
          <a:off x="181080" y="469800"/>
          <a:ext cx="882324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469800"/>
                    <a:ext cx="882324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181080" y="469800"/>
          <a:ext cx="882324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469800"/>
                    <a:ext cx="882324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403200" y="469800"/>
          <a:ext cx="8634600" cy="768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634600" cy="768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403200" y="485640"/>
          <a:ext cx="8575560" cy="685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85640"/>
                    <a:ext cx="857556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700200" y="420840"/>
          <a:ext cx="8154720" cy="660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00" y="420840"/>
                    <a:ext cx="8154720" cy="66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411120" y="420840"/>
          <a:ext cx="8502840" cy="65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420840"/>
                    <a:ext cx="8502840" cy="65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304920" y="271440"/>
          <a:ext cx="8665920" cy="668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1440"/>
                    <a:ext cx="8665920" cy="66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11-05-10T12:45:34Z</dcterms:modified>
  <cp:revision>200</cp:revision>
  <dc:subject/>
  <dc:title>Sin título de diapositiva</dc:title>
</cp:coreProperties>
</file>