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49D-2127-4827-953F-1E8501EA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F07-26A3-4F75-9803-708CDBD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873-1575-4135-8195-2807BF98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3DA-DB4D-46DA-8ED5-B45C39C3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42B4-5F3C-4A49-8A0A-FDE5AA5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E260-0DE9-4474-A0A8-44687FA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3B35-0D07-4935-B590-16CE3D6F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DDC-10B8-48A5-BED3-C5DF0BEC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C89A-B7ED-4F51-B76E-F16F1EE8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4046-9FEA-41E8-959D-42498320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5066-E3F5-4A2F-8896-8C2FB5D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34B-0364-43B9-8C11-27DE609A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79F-FA8A-473D-A68A-A394FFDB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B7BC-1BE0-4A92-8639-8ABE30E8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19A8-C2CE-409E-994A-3B9468CA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8396-8556-4766-86CC-AB405204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8E3E-4D3F-4F0E-B4E5-22F46914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085CF-41C6-4333-AD15-A7936530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2739D-CA59-4058-89BA-B9A6F3B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9D3D6-BAA2-4BD6-B099-C643780B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2A372-1B70-4D73-8097-1F877B21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0E5F4-60AE-4E23-A7B6-DD506C8A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ED6-7EEC-4D0B-A9D9-91E7D51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BD715-56A9-47BA-872E-361DF9F4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F7353-121D-4101-B923-9FC7AC2F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92C4A-B4C1-4126-A748-480A7504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34917-6EA2-4C1B-BC7A-2CE4C3A8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32AE1-A6F0-400C-9AFC-756F12AC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2FCB8-36BB-4E23-BDCB-99727F63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CF656-29AD-41E0-A5B0-A3D1A930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7225-6EDE-466F-BFDF-B725D1F9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5729-F14C-4188-B33D-9D6A4C46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29B3E-4BD3-4FC9-8EEC-DC1E2CE1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B08-C96C-4A33-BCB0-BD007629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B0C3-B9D9-4698-B003-6EDCE88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E8561-A48B-4245-B6D0-8575C9E6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F8C2-A0D4-4648-9D70-D99C3C82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81EF-8182-4D3F-9EB6-91C9A69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5A01B-2B3B-47EA-BA89-4F06EA8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07751-E079-4A9D-B29E-A82DBC0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C317-A3C3-43C4-B20F-7F179897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5CFCE-AE65-42F1-AB0E-29999446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6CD1-70A1-4501-A89B-EED784AF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6CF5E-CCA1-47B2-9C7F-8932C32B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583-58A2-4505-A070-80B4FDA5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5B52D-6B2D-469C-B78D-51B079C7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375896-9522-45A1-AFA9-7BF4F5B9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0CD824-7CCD-4122-ADE4-E0E25E3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1D546-8097-404C-B287-B9626C4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CAAE3-D079-44A9-97E5-22539839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4EDF2-75B5-4093-9525-BAE7943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CFE2C-60F9-4627-A2E7-F2086B3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C1733-E052-4F2C-8E0C-8CFB146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F4A44-A39C-4BA0-ADCC-39B5878B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7472F-EC35-4C43-84AF-118506D1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2A6-B174-4BB7-82A3-6786879E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032DF-99A2-4D40-BE18-00ED5A3D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99E63-2E65-4C27-873A-192B6C19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798E0-D43B-476B-9A6A-4687D75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6462E-4956-4200-A7A6-22B967FD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F278B-8821-4C31-8BA0-A9CA31F7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C0A98-C2EC-466B-8B1B-344F0EAB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06347-6A6B-4EAF-88DB-5FDD2C9B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FC2B9-91B8-4A97-954A-A9903379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C9E72-259D-41E7-9F0A-DC0212A9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D1ABE-4566-4D25-A1FB-1A645A0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712-F63A-4450-AC2F-0232A94E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6E7DF-1200-4106-BBF9-3F9B1D35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E0627-3C2E-431E-AC09-3E56EC7C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0FABE-ABC3-4813-AD4E-EF0E05F5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099E2-658E-4EE3-940F-3E9417AC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47C12-B769-4F7E-9AAA-CB2185A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4F55B-DD9C-4EFE-9C8F-6E050F21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B6F17-7249-4B40-86D2-631BC3F2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5C92D-694E-44E2-8E18-15AA9227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9C684A-B9A0-491A-A0BB-618E1966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BF451-D66F-4D2B-9C08-5F8FD70F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DF4-AC01-4850-9400-ED3FADE3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06E6E-58C1-4E12-91CF-4C929DE0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2D13E-A2F6-408D-B925-39ADED9C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93123-BEFD-42E1-9798-F2B74B35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BEA88-9992-4333-BD09-0B6F37D7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DF73EA-8595-4189-AF70-8AB7537A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796-4734-41FE-AC80-71FA8AF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EDE-596A-4A40-B66F-4C25B154B9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E655-E3D2-4712-8881-293E7D3467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1479-2A83-45B1-A6E2-075F6E901B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9CE5-BB8C-438A-BC87-11D99ED49C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49BA-5DEA-48B6-A682-24ACEFE83E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BE8C-0B22-4141-9CE8-4CE12D6D68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AF66-2093-4C0D-9E7A-1070F6E12C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5"/>
          <p:cNvGraphicFramePr/>
          <p:nvPr/>
        </p:nvGraphicFramePr>
        <p:xfrm>
          <a:off x="635040" y="477720"/>
          <a:ext cx="7956360" cy="669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6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198360" y="173160"/>
          <a:ext cx="8460000" cy="62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73160"/>
                    <a:ext cx="8460000" cy="62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279360" y="230040"/>
          <a:ext cx="8650440" cy="659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30040"/>
                    <a:ext cx="8650440" cy="659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345960" y="230040"/>
          <a:ext cx="8518680" cy="64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30040"/>
                    <a:ext cx="851868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Object 5"/>
          <p:cNvGraphicFramePr/>
          <p:nvPr/>
        </p:nvGraphicFramePr>
        <p:xfrm>
          <a:off x="635040" y="477720"/>
          <a:ext cx="7956360" cy="696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9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1 Rectángulo"/>
          <p:cNvSpPr/>
          <p:nvPr/>
        </p:nvSpPr>
        <p:spPr>
          <a:xfrm>
            <a:off x="250920" y="18900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r diccionario con items nombre:[fono,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dic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agenda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agenda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uperar fono y nombre de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o=linea[0: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mbre=linea[10: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i nombre está en agenda, agregar 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 i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nombre].append(fo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i no está en agenda, crear lista con 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nombre]=[fon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1 Rectángulo"/>
          <p:cNvSpPr/>
          <p:nvPr/>
        </p:nvSpPr>
        <p:spPr>
          <a:xfrm>
            <a:off x="468360" y="40464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ombres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mbre=raw_input("nombre?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=="fin"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todos los fonos de l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 not i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no existe en la agend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fono in D[nombre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fono=",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4"/>
          <p:cNvGraphicFramePr/>
          <p:nvPr/>
        </p:nvGraphicFramePr>
        <p:xfrm>
          <a:off x="181080" y="469800"/>
          <a:ext cx="8823240" cy="700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4"/>
          <p:cNvGraphicFramePr/>
          <p:nvPr/>
        </p:nvGraphicFramePr>
        <p:xfrm>
          <a:off x="181080" y="469800"/>
          <a:ext cx="8823240" cy="700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403200" y="469800"/>
          <a:ext cx="8634600" cy="768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634600" cy="768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2"/>
          <p:cNvGraphicFramePr/>
          <p:nvPr/>
        </p:nvGraphicFramePr>
        <p:xfrm>
          <a:off x="403200" y="469800"/>
          <a:ext cx="8427960" cy="69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9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4"/>
          <p:cNvGraphicFramePr/>
          <p:nvPr/>
        </p:nvGraphicFramePr>
        <p:xfrm>
          <a:off x="312840" y="230040"/>
          <a:ext cx="792468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230040"/>
                    <a:ext cx="79246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2"/>
          <p:cNvGraphicFramePr/>
          <p:nvPr/>
        </p:nvGraphicFramePr>
        <p:xfrm>
          <a:off x="708120" y="428760"/>
          <a:ext cx="8256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28760"/>
                    <a:ext cx="8256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708120" y="428760"/>
          <a:ext cx="8197920" cy="66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28760"/>
                    <a:ext cx="819792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198360" y="173160"/>
          <a:ext cx="846000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73160"/>
                    <a:ext cx="846000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Victor Ramiro</cp:lastModifiedBy>
  <cp:lastPrinted>2006-05-19T15:19:42Z</cp:lastPrinted>
  <dcterms:modified xsi:type="dcterms:W3CDTF">2011-05-06T00:20:25Z</dcterms:modified>
  <cp:revision>154</cp:revision>
  <dc:subject/>
  <dc:title>Sin título de diapositiva</dc:title>
</cp:coreProperties>
</file>