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57CE-604E-4733-A4BA-60E4503DC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4EDB-6669-432F-91F7-12C4868D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2179-74D9-4407-A33C-B6039DD1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FC49-359E-4B33-BB1A-FE5CEC11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72A0-8DDF-4027-A7D8-4DD1FB27A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23D5-8AFD-4088-89A0-0E1437AF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C3B9-0A05-4618-B1DA-4189723B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EA99-2E15-4C08-90AB-5265C612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B36F-F022-416B-9003-02323A91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D4EF5-B760-4E7E-9414-E8DE84A2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8E80-7709-4EB6-82DD-996AC345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4BD0-EB1A-4F6B-AA71-78E7AFEB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4C464-F4E7-472D-8C32-904A0934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3B3F-438E-4DEB-AE0D-7F36660E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2EA8-2C02-4EE2-B711-255AD212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541C-1D2F-4735-9D2E-5411738A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2F92-C14C-4D5D-AE19-0A7225DA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4DFDB5-E04F-4937-B825-E2CF8E129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D7E06-9ACB-4E41-B573-CA9463716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C8D69-20C9-4319-83DF-E3EC6870D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A86EA-A148-48C7-85B2-4E2AEBCB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71E39B-6B1D-4C10-8C46-4022F793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ACA4-6943-409A-97EE-5613CB8F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6C70C-9425-40A9-98FD-06DCBAC0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6F99FE-0A06-476D-9D10-5F28318CD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50F5E-1DDA-4315-A59D-2CF033B2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49049-963E-49DF-9A97-BFF79322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7761D-B602-420D-8A46-13EC32EE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B7559-1267-440B-AB65-A0A05FE8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CB53C8-8A8C-4750-983D-5FD05905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02D36-D2CA-4B98-82B7-B9188192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685FB-769D-4758-824F-B62477DB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AE1897-5709-40C2-B246-E0EC0DB2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A11E-A43C-42F0-A598-14BA6774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D9071-DE56-4CA0-9CD6-D9F41C1C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7CCC8-4391-4492-A45E-B8156774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C7C56-AD8E-4F32-A339-DE08773A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D0C4A-756C-4A75-AFA5-6522E8B3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02989-C56C-4F87-AC5F-58735A25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0A0CB-6DD4-4C56-8EBC-57ED5C6B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341CE-2DA2-42E9-9789-722EDBAD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3222A-536A-4498-BB92-9FFA20AB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A12C1-EA49-4AD5-B408-312525A09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61202-F14C-4251-A6D2-26D784BD9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D52-F452-4693-B01E-1D26F859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361BC7-855A-42FA-867D-90175EFB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FF2C8-1C17-4692-9B2B-5FB580B6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346B7C-3F18-4CAF-ADC9-1275AB8F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28AF82-0AB8-47DE-9857-69DA6D31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71CD8-D5AE-4FB5-A479-88C107C5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69BB3C-C5E9-4248-B8A8-B2D7E5AA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4743D-256E-4385-828B-735C7671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62A68C-0E09-4188-8388-292CA0A9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A647CE-6001-496E-9196-03B3CEAF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1751C6-5C3B-4DF0-B0C9-87DBA932C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A718-AD46-47F7-91B3-8B6963AD0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F0CE2E-0BC7-44CB-B056-4BE7D159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647D93-BAAD-4CB0-B31D-4B99AD90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CB7431-1309-4CE4-ACD5-DBA63AD1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1ED6B8-3198-46EC-8907-C30EF34F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B0B256-B4F8-403D-B89C-D5F85922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3B2CFA-94EF-4BDA-87C7-9921B249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F90FC3-E0F3-43F2-9159-DF5F062B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9A1823-231C-4AA0-9BDA-F106F93F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7D992E-C64D-439C-99BF-1A910EF8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6C0707-2857-4603-B0A2-4570C6B1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351B-F295-4C43-A502-E1B7A4E0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9BB96B-9B41-4D23-80F5-DB38CC7D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6B2AB1-BBA5-4587-B57E-D19BB70B1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ACF8E-278A-4265-8E43-8B536600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E9E7C4-6DA5-4443-A371-8AD115B9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4586AD-051A-4953-9843-CDEFB7FD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8F8717-5E58-4DDB-8796-250DE8E6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95C17D-70E7-4207-B6FC-59F0E1A0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6C850C-44BA-459F-BED2-4866DCE2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9CAA94-63FA-4F81-9B4C-39C295CF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46BCCA-6DD6-4269-A878-BEC895E8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82D3-76F6-4F7A-9CC7-CEEDAB68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9E17D-A47F-4AFF-B7E2-49337E9BE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5C9326-256A-4D81-9C34-729E9474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16940E-5AEC-400E-BF7A-8E1733FA4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077DF-A101-4D5B-84AE-1FE5E4DD0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67893B-3E37-4EA9-A3FE-BA22A2FA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EFC1-9C4B-4258-BB60-19651BEB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B2EA-4D20-4840-AF18-B656C8AEF0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826F5-0CEF-4122-9D97-909D55C14A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C674-5F9D-44EC-A9C8-F241E111FC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E7CD-8509-42CC-AE7A-4EF255E522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129F-1C59-4974-BB67-46EC353424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9EBD-9F3F-4596-AFC2-56CD9B805F1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7F1B-48D7-45CB-A34B-987AEB8D381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Object 4"/>
          <p:cNvGraphicFramePr/>
          <p:nvPr/>
        </p:nvGraphicFramePr>
        <p:xfrm>
          <a:off x="1768320" y="2795760"/>
          <a:ext cx="5518440" cy="123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795760"/>
                    <a:ext cx="5518440" cy="123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5"/>
          <p:cNvGraphicFramePr/>
          <p:nvPr/>
        </p:nvGraphicFramePr>
        <p:xfrm>
          <a:off x="635040" y="477720"/>
          <a:ext cx="7956360" cy="669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040" y="477720"/>
                    <a:ext cx="7956360" cy="669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1" name="Object 2"/>
          <p:cNvGraphicFramePr/>
          <p:nvPr/>
        </p:nvGraphicFramePr>
        <p:xfrm>
          <a:off x="198360" y="173160"/>
          <a:ext cx="8460000" cy="629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360" y="173160"/>
                    <a:ext cx="8460000" cy="62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Object 2"/>
          <p:cNvGraphicFramePr/>
          <p:nvPr/>
        </p:nvGraphicFramePr>
        <p:xfrm>
          <a:off x="279360" y="230040"/>
          <a:ext cx="8650440" cy="659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230040"/>
                    <a:ext cx="8650440" cy="659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5" name="Object 2"/>
          <p:cNvGraphicFramePr/>
          <p:nvPr/>
        </p:nvGraphicFramePr>
        <p:xfrm>
          <a:off x="345960" y="230040"/>
          <a:ext cx="8518680" cy="64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960" y="230040"/>
                    <a:ext cx="8518680" cy="64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7" name="Object 5"/>
          <p:cNvGraphicFramePr/>
          <p:nvPr/>
        </p:nvGraphicFramePr>
        <p:xfrm>
          <a:off x="635040" y="477720"/>
          <a:ext cx="7956360" cy="696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477720"/>
                    <a:ext cx="7956360" cy="69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1 Rectángulo"/>
          <p:cNvSpPr/>
          <p:nvPr/>
        </p:nvSpPr>
        <p:spPr>
          <a:xfrm>
            <a:off x="250920" y="189000"/>
            <a:ext cx="86421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crear diccionario con items nombre:[fono,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=dic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leer lineas de agenda.t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linea in open("agenda.txt"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recuperar fono y nombre de li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no=linea[0:1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mbre=linea[10:-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si nombre está en agenda, agregar f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mbre in 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[nombre].append(fo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si no está en agenda, crear lista con f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[nombre]=[fon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1 Rectángulo"/>
          <p:cNvSpPr/>
          <p:nvPr/>
        </p:nvSpPr>
        <p:spPr>
          <a:xfrm>
            <a:off x="468360" y="404640"/>
            <a:ext cx="7991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obtener nombres de 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nombre=raw_input("nombre?"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mbre=="fin": br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mostrar todos los fonos de la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nombre not in 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no existe en la agenda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fono in D[nombre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"fono=",f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Object 4"/>
          <p:cNvGraphicFramePr/>
          <p:nvPr/>
        </p:nvGraphicFramePr>
        <p:xfrm>
          <a:off x="181080" y="469800"/>
          <a:ext cx="8823240" cy="700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469800"/>
                    <a:ext cx="8823240" cy="700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Object 4"/>
          <p:cNvGraphicFramePr/>
          <p:nvPr/>
        </p:nvGraphicFramePr>
        <p:xfrm>
          <a:off x="181080" y="469800"/>
          <a:ext cx="8823240" cy="700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080" y="469800"/>
                    <a:ext cx="8823240" cy="700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9" name="Object 2"/>
          <p:cNvGraphicFramePr/>
          <p:nvPr/>
        </p:nvGraphicFramePr>
        <p:xfrm>
          <a:off x="403200" y="469800"/>
          <a:ext cx="8634600" cy="768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634600" cy="768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Object 2"/>
          <p:cNvGraphicFramePr/>
          <p:nvPr/>
        </p:nvGraphicFramePr>
        <p:xfrm>
          <a:off x="403200" y="469800"/>
          <a:ext cx="8427960" cy="694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427960" cy="69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4"/>
          <p:cNvGraphicFramePr/>
          <p:nvPr/>
        </p:nvGraphicFramePr>
        <p:xfrm>
          <a:off x="312840" y="230040"/>
          <a:ext cx="7924680" cy="66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230040"/>
                    <a:ext cx="7924680" cy="66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Object 2"/>
          <p:cNvGraphicFramePr/>
          <p:nvPr/>
        </p:nvGraphicFramePr>
        <p:xfrm>
          <a:off x="708120" y="428760"/>
          <a:ext cx="8256600" cy="649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428760"/>
                    <a:ext cx="8256600" cy="64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2"/>
          <p:cNvGraphicFramePr/>
          <p:nvPr/>
        </p:nvGraphicFramePr>
        <p:xfrm>
          <a:off x="708120" y="428760"/>
          <a:ext cx="8197920" cy="6672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428760"/>
                    <a:ext cx="8197920" cy="66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Object 2"/>
          <p:cNvGraphicFramePr/>
          <p:nvPr/>
        </p:nvGraphicFramePr>
        <p:xfrm>
          <a:off x="198360" y="173160"/>
          <a:ext cx="8460000" cy="631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360" y="173160"/>
                    <a:ext cx="8460000" cy="63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01:30Z</dcterms:created>
  <dc:creator>jalvarez</dc:creator>
  <dc:description/>
  <dc:language>en-US</dc:language>
  <cp:lastModifiedBy>Victor Ramiro</cp:lastModifiedBy>
  <cp:lastPrinted>2006-05-19T15:19:42Z</cp:lastPrinted>
  <dcterms:modified xsi:type="dcterms:W3CDTF">2011-05-06T00:20:25Z</dcterms:modified>
  <cp:revision>154</cp:revision>
  <dc:subject/>
  <dc:title>Sin título de diapositiva</dc:title>
</cp:coreProperties>
</file>