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3C3-083D-4D69-89AC-C30888C1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3FB-CE97-47C4-A3FE-4CB64DE0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EB0-CF0D-4F38-8E5D-2835EEF5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09B-E02A-4843-B618-0BE021F0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E3E3-768D-4074-B5F1-50D766C9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8B04-3C1C-4209-91D3-6521C1EC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44E1-60D8-46BA-8B33-4A666A97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97B4-7F5D-4D4C-B0C0-7EE030A6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7A67-5367-4F23-913F-9A1DBFDA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CEFA-1E83-4FD5-94AD-1F1D13F2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E87B-7D69-44D3-A0E6-080F156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C98-8CF8-4BD5-B66E-53FCFD73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BA2B-7446-46AA-AE44-1469154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C55A-88E0-4D94-A0E4-25869B5E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EE6F-3B10-4033-BC85-2B00441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7D2F-0A2D-4B8C-B388-311E4F37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BA4-5AFA-41D6-A9D7-55294DE6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AE3C3-FC8C-4B79-874E-BEF1112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C7AE3-A633-415B-A3F5-E8A16EE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C73DE-DA02-4319-BF17-85DADBE5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9942E-1C46-4AB1-A400-C106DA6E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9F48F-F95B-4FEA-BA46-638042F4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BEF-35FA-4521-B064-0589CE12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95FC6-53EB-4098-BA6E-09B25D4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3374C6-B926-4D46-892E-56CC417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E624B-79FC-4AE9-8C34-574CB03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9C36F-C7FE-42B9-BC03-57499BC3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B1406-A125-4329-9D63-448A6C1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0D3FD-6D7E-4F7A-9B83-90B13F3C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31DB6-44F7-4173-8E72-856ECA3E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53B60-64C5-40C9-8782-4BDA694D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B36F-D31A-4A04-9FC0-1D97ED13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E44A7-02AE-49AD-AF52-F584D033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D64-42E8-40F3-9AA5-BE05896A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8DDD4-87DA-4254-9BAF-648CED63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8526-A747-4AD3-A673-A86F4049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6CCE3-6CF8-401F-B9F2-F1AC32A6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C7D5D-8076-4348-9549-FCF8098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2E06-EC54-47A4-8D0C-59285080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945A-E6AC-4A44-89DA-56EC97F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8A0A-89D4-4B06-9A6C-CD1EB6A2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6B4A-8171-40F6-9314-55EDE2A8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078E-8DC9-422B-A32C-7B10C115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13F88-FACD-4914-AB2E-A29BEBCF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3EF-BCE8-4977-ADF8-26484D09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8797F-AE0B-4317-8109-FA1FBEF1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20674-FF42-40C2-95C8-2B49C44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84812-431B-4658-8ABA-0F29A12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2975B-DD50-4C13-B4FB-9F3F083E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88228C-D9FF-49A2-A83B-A708CB91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6A261-1BB9-4CC8-8702-A94510EF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5550D-804D-4B2D-B948-E3FDC16E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937027-820C-415F-A0DE-2639E08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880AD-B7A2-47E8-A768-37264B43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F2076-BC86-4AAC-BEA7-E10C3B45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B50-B9D4-414D-85B9-CABDC913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5F10F-28A7-4B16-9636-25AC0BD3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B4D1C-986D-4D1F-9FF3-4BD0E4FB3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276734-13CC-4A69-B110-8199C170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CCA31-EFD3-4F15-A361-B6BB59AA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9BFA53-F056-42CB-9E40-7665EE6F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09E4E1-DE70-4FE4-BE3F-1965CDA9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65862-B13F-404D-9439-2A6AF1C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F9A7E6-678C-4DFD-8BC5-C56FEBD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F8099C-6B01-442F-A681-A24258D5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80889-BCB3-4CCA-9741-D1F123D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6E4-3DE7-418F-9114-D24E7A9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62BADB-E0E4-4277-B350-D2EDFFC7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CBA7F-A0CF-4D18-A806-348C4E65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CC452-B768-4D15-9B18-2232200B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C1EE0-24DE-4090-A4BB-D7BAED0D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EDD18-D2D8-4354-8790-AAE54B5D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42561-B658-4558-B9EE-DED5D9E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9330D-A26E-422B-A9C4-F84B6F79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358C9-D618-430D-A1AB-C9857A2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F561B-19FA-41A3-BE7C-3BE63D4C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AD8D5-A7F3-4D1B-8983-0845EF1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415-C570-405A-A94E-3D0DCF98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9FBC-77AE-426E-92B9-292AB9A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07E45E-6BCC-45D0-A87C-B817FD3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37B3F-CB44-4843-B1EF-FB8A894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D94B5-BC01-4979-9BE6-026EF312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2936DA-552B-4913-9A9E-AB062112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BCD-305D-4448-B7E3-7AF538C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752-6A6A-4311-9A0F-EDE9DB34B7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9433-476D-407D-889A-312D4A53BC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875-DB12-40BA-B681-42B5F13928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2FE-9056-49A1-9D30-F29CF3CE3A4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B649-96D0-4A8C-B43E-E57CD4DE52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E317-6FA9-412C-8A1D-EC7A99CD1B8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69E0-E11E-4B33-B14A-8129584FE1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5"/>
          <p:cNvGraphicFramePr/>
          <p:nvPr/>
        </p:nvGraphicFramePr>
        <p:xfrm>
          <a:off x="635040" y="477720"/>
          <a:ext cx="7956360" cy="669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6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198360" y="173160"/>
          <a:ext cx="8460000" cy="62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73160"/>
                    <a:ext cx="8460000" cy="62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279360" y="230040"/>
          <a:ext cx="8650440" cy="659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30040"/>
                    <a:ext cx="8650440" cy="659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345960" y="230040"/>
          <a:ext cx="8518680" cy="64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30040"/>
                    <a:ext cx="851868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Object 5"/>
          <p:cNvGraphicFramePr/>
          <p:nvPr/>
        </p:nvGraphicFramePr>
        <p:xfrm>
          <a:off x="635040" y="477720"/>
          <a:ext cx="7956360" cy="696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9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1 Rectángulo"/>
          <p:cNvSpPr/>
          <p:nvPr/>
        </p:nvSpPr>
        <p:spPr>
          <a:xfrm>
            <a:off x="250920" y="18900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r diccionario con items nombre:[fono,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dic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agenda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agenda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uperar fono y nombre de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o=linea[0: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mbre=linea[10: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i nombre está en agenda, agregar 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 i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nombre].append(fo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i no está en agenda, crear lista con 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nombre]=[fon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1 Rectángulo"/>
          <p:cNvSpPr/>
          <p:nvPr/>
        </p:nvSpPr>
        <p:spPr>
          <a:xfrm>
            <a:off x="468360" y="40464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ombres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mbre=raw_input("nombre?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=="fin"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todos los fonos de l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 not i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no existe en la agend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fono in D[nombre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fono=",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4"/>
          <p:cNvGraphicFramePr/>
          <p:nvPr/>
        </p:nvGraphicFramePr>
        <p:xfrm>
          <a:off x="181080" y="469800"/>
          <a:ext cx="8823240" cy="700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4"/>
          <p:cNvGraphicFramePr/>
          <p:nvPr/>
        </p:nvGraphicFramePr>
        <p:xfrm>
          <a:off x="181080" y="469800"/>
          <a:ext cx="8823240" cy="700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403200" y="469800"/>
          <a:ext cx="8634600" cy="768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634600" cy="768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2"/>
          <p:cNvGraphicFramePr/>
          <p:nvPr/>
        </p:nvGraphicFramePr>
        <p:xfrm>
          <a:off x="403200" y="469800"/>
          <a:ext cx="8427960" cy="69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9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4"/>
          <p:cNvGraphicFramePr/>
          <p:nvPr/>
        </p:nvGraphicFramePr>
        <p:xfrm>
          <a:off x="312840" y="230040"/>
          <a:ext cx="792468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230040"/>
                    <a:ext cx="79246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2"/>
          <p:cNvGraphicFramePr/>
          <p:nvPr/>
        </p:nvGraphicFramePr>
        <p:xfrm>
          <a:off x="708120" y="428760"/>
          <a:ext cx="8256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28760"/>
                    <a:ext cx="8256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708120" y="428760"/>
          <a:ext cx="8197920" cy="66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28760"/>
                    <a:ext cx="819792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198360" y="173160"/>
          <a:ext cx="846000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73160"/>
                    <a:ext cx="846000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Victor Ramiro</cp:lastModifiedBy>
  <cp:lastPrinted>2006-05-19T15:19:42Z</cp:lastPrinted>
  <dcterms:modified xsi:type="dcterms:W3CDTF">2011-05-06T00:20:25Z</dcterms:modified>
  <cp:revision>154</cp:revision>
  <dc:subject/>
  <dc:title>Sin título de diapositiva</dc:title>
</cp:coreProperties>
</file>