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D17-D847-4DF9-B0F8-24D499B0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D8C-CA2C-4FDA-A3A1-8469FDA1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964-A2D3-4A7E-B88A-7C893DB3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B09-5B9F-4034-B6BE-877A4A94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0D0-419B-4651-82E3-407C8B8F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39B-EDFB-4FA0-9584-23F7F9D0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E4C-7A0B-4B83-92CC-F760795F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5F5-8600-4EB9-BF4D-0ADB2F7C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812-7865-4E75-BAF5-9C537AB1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87D-C149-4AFB-8B83-0465070C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6DF-6666-4E05-BE9B-8D86BADD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D53-ED01-4594-92B8-34BB59BF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349A-4A5B-457B-BF3D-F7063F5C0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635040" y="477720"/>
          <a:ext cx="7956360" cy="6705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40" y="477720"/>
                    <a:ext cx="79563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625320" y="428760"/>
          <a:ext cx="80154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625320" y="428760"/>
          <a:ext cx="8015400" cy="65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625320" y="387360"/>
          <a:ext cx="817272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387360"/>
                    <a:ext cx="817272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635040" y="477720"/>
          <a:ext cx="795636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77720"/>
                    <a:ext cx="79563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Rectángulo"/>
          <p:cNvSpPr/>
          <p:nvPr/>
        </p:nvSpPr>
        <p:spPr>
          <a:xfrm>
            <a:off x="179280" y="189000"/>
            <a:ext cx="8785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ir lista de n "filas" y 4 "column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de primer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1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gregar lista con sección, nombre y 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 [linea[0],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a[1:21],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(linea[21:23])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de segundo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2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buscar nombre en lista alumnos de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lumno[1]==linea[1:21]: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gregar nota a lista de alum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umno.append(int(linea[21:23])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468360" y="40464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rdenar lista por sección y n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so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alcular y guardar planilla final orde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=open(“planilla.txt","w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medio=int((alumno[2]+alumno[3])/2.0+0.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write(alumno[0]+   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umno[1]+   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alumno[2])+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alumno[3])+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promedio)+"\n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Rectángulo"/>
          <p:cNvSpPr/>
          <p:nvPr/>
        </p:nvSpPr>
        <p:spPr>
          <a:xfrm>
            <a:off x="179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olución 2: Con lista de 8 listas (una por se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ir lista de 8 listas (inicialmente vac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8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primer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1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indice de lista de 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(linea[0])-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gregar [nombre,nota] a lista de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[i].append([linea[1:21],int(linea[21:23])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324000" y="18900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segundo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2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indice de lista 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ec=int(linea[0])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buscar nombre en lista de la secc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L[isec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lumno[0]==linea[1:21]: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gregar nota a lista de alumno de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umno.append(int(linea[21:23]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Rectángulo"/>
          <p:cNvSpPr/>
          <p:nvPr/>
        </p:nvSpPr>
        <p:spPr>
          <a:xfrm>
            <a:off x="179280" y="11592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bar plan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=open("planilla.txt","w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correr indices de 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len(L)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lista de la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ccion=L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rdenar lista de la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ccion.so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correr alumnos de la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sec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bar datos del alumno en planilla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medio=int((alumno[1]+alumno[2])/2.0+0.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write(str(i+1)+alumno[0]+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alumno[1])+str(alumno[2])+  \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promedio)+"\n"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403200" y="469800"/>
          <a:ext cx="8427960" cy="57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"/>
          <p:cNvGraphicFramePr/>
          <p:nvPr/>
        </p:nvGraphicFramePr>
        <p:xfrm>
          <a:off x="379440" y="304920"/>
          <a:ext cx="861696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304920"/>
                    <a:ext cx="861696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03200" y="477720"/>
          <a:ext cx="851868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77720"/>
                    <a:ext cx="85186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271440" y="247680"/>
          <a:ext cx="8609040" cy="67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247680"/>
                    <a:ext cx="860904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403200" y="469800"/>
          <a:ext cx="8427960" cy="683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8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4"/>
          <p:cNvGraphicFramePr/>
          <p:nvPr/>
        </p:nvGraphicFramePr>
        <p:xfrm>
          <a:off x="452520" y="304920"/>
          <a:ext cx="8066160" cy="80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452520" y="304920"/>
          <a:ext cx="8066160" cy="80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03200" y="469800"/>
          <a:ext cx="8427960" cy="68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8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1-05-03T19:15:26Z</dcterms:modified>
  <cp:revision>110</cp:revision>
  <dc:subject/>
  <dc:title>Sin título de diapositiva</dc:title>
</cp:coreProperties>
</file>