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575-764A-4EE2-BB4E-E7CADABC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8EE-7193-452F-8936-40B1EFEA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3C2-786C-4B1F-B2F2-AFBD5DA9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4EF-22F1-4932-9C06-634C4A06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89F-D039-4C71-8617-7B12ED09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2FE-6F3B-4F5E-9B7A-26D295BF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365-0912-4F38-A0B5-CC1F3D9B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802-9639-47C2-BB81-9A4CF0EC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884-E353-465D-BC6B-1945114C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959-B003-4BED-9F4C-28E631B4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A9B-C9F2-4A64-A8AD-7254350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FBA-BC65-4147-97D9-1817E345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3FAD-1AF3-454A-A3CE-E8C4F060C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5320" y="387360"/>
          <a:ext cx="81727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87360"/>
                    <a:ext cx="81727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n "filas" y 4 "column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primer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lista con sección, nombre y 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 [linea[0],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a[1:21],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(linea[21:23])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segund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 en lista alumnos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lumno[1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nota a lista de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.append(int(linea[21:23]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468360" y="404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lista por sección y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y guardar planilla final orde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“planilla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alumno[2]+alumno[3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alumno[0]+ 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[1]+ 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2])+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3])+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lución 2: Con lista de 8 listas (una por se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8 listas (inicialmente vac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primer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indice de lista de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(linea[0])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[nombre,nota] a lista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.append([linea[1:21],int(linea[21:23]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24000" y="18900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segund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indice de lista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ec=int(linea[0])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 en lista de la se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[isec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lumno[0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nota a lista de alumno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.append(int(linea[21:23]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Rectángulo"/>
          <p:cNvSpPr/>
          <p:nvPr/>
        </p:nvSpPr>
        <p:spPr>
          <a:xfrm>
            <a:off x="179280" y="1159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bar plan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"planilla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orrer indices de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lista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ccion=L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lista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ccion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orrer alumnos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s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bar datos del alumno en planilla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alumno[1]+alumno[2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str(i+1)+alumno[0]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1])+str(alumno[2])+  \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090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090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8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03T19:15:26Z</dcterms:modified>
  <cp:revision>110</cp:revision>
  <dc:subject/>
  <dc:title>Sin título de diapositiva</dc:title>
</cp:coreProperties>
</file>