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4AAD-FA92-4C11-93D5-7B3EE77F1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C9A6-F398-4458-90BC-1C025B2D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63F1-CC99-4A04-AF06-E17201DA2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EDB5-8BB5-4AB0-AF45-245FF07DA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BF1A-4F62-42FE-B961-66127184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9534-6F7A-47CE-90CF-FB9E8CEF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1B0D-B437-42D2-BD28-73F2C4BF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35F2-50DF-49FC-9148-FD54AA06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002F-7EB9-4025-8428-0C9E06DB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0DB9-A126-489C-BB20-A0F9CE96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8B91-FA43-4E9F-864E-A502A84E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5F26-B9C5-4978-9787-B14F5CF3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1D54-91BD-4507-B779-F31FE6F11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4"/>
          <p:cNvGraphicFramePr/>
          <p:nvPr/>
        </p:nvGraphicFramePr>
        <p:xfrm>
          <a:off x="1768320" y="2795760"/>
          <a:ext cx="5518440" cy="12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795760"/>
                    <a:ext cx="551844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5"/>
          <p:cNvGraphicFramePr/>
          <p:nvPr/>
        </p:nvGraphicFramePr>
        <p:xfrm>
          <a:off x="635040" y="477720"/>
          <a:ext cx="7956360" cy="6705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5040" y="477720"/>
                    <a:ext cx="795636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625320" y="428760"/>
          <a:ext cx="8015400" cy="658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28760"/>
                    <a:ext cx="8015400" cy="65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625320" y="428760"/>
          <a:ext cx="808200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28760"/>
                    <a:ext cx="808200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625320" y="428760"/>
          <a:ext cx="8015400" cy="658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28760"/>
                    <a:ext cx="8015400" cy="65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635040" y="477720"/>
          <a:ext cx="7956360" cy="670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477720"/>
                    <a:ext cx="795636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1 Rectángulo"/>
          <p:cNvSpPr/>
          <p:nvPr/>
        </p:nvSpPr>
        <p:spPr>
          <a:xfrm>
            <a:off x="179280" y="189000"/>
            <a:ext cx="8785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ir lista de n "filas" y 4 "column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=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uardar sección, nombre y notas de pregunta 1 en una l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linea in open("notas1.txt"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.append( [linea[0],   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inea[1:21],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(linea[21:23])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uardar notas de pregunt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linea in open("notas2.txt"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buscar nom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 in range(len(L)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L[i][1]==linea[1:21]: br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[i].append(int(linea[21:23])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1 Rectángulo"/>
          <p:cNvSpPr/>
          <p:nvPr/>
        </p:nvSpPr>
        <p:spPr>
          <a:xfrm>
            <a:off x="468360" y="404640"/>
            <a:ext cx="8136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calcular y guardar planilla final orden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.sort() #ordenar por sección y nom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chivo=open("notas.txt","w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 in range(len(L)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medio=int((L[i][2]+L[i][3])/2.0+0.5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chivo.write(L[i][0]+     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[i][1]+     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(L[i][2])+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(L[i][3])+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(promedio)+"\n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chivo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4"/>
          <p:cNvGraphicFramePr/>
          <p:nvPr/>
        </p:nvGraphicFramePr>
        <p:xfrm>
          <a:off x="403200" y="469800"/>
          <a:ext cx="8427960" cy="575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427960" cy="57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4"/>
          <p:cNvGraphicFramePr/>
          <p:nvPr/>
        </p:nvGraphicFramePr>
        <p:xfrm>
          <a:off x="379440" y="304920"/>
          <a:ext cx="8616960" cy="62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304920"/>
                    <a:ext cx="8616960" cy="62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403200" y="477720"/>
          <a:ext cx="8518680" cy="576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77720"/>
                    <a:ext cx="851868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271440" y="247680"/>
          <a:ext cx="8691480" cy="677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40" y="247680"/>
                    <a:ext cx="8691480" cy="67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403200" y="469800"/>
          <a:ext cx="8427960" cy="612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427960" cy="61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4"/>
          <p:cNvGraphicFramePr/>
          <p:nvPr/>
        </p:nvGraphicFramePr>
        <p:xfrm>
          <a:off x="452520" y="304920"/>
          <a:ext cx="8066160" cy="806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304920"/>
                    <a:ext cx="8066160" cy="80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452520" y="304920"/>
          <a:ext cx="8066160" cy="807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304920"/>
                    <a:ext cx="8066160" cy="80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403200" y="469800"/>
          <a:ext cx="8427960" cy="661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427960" cy="661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01:30Z</dcterms:created>
  <dc:creator>jalvarez</dc:creator>
  <dc:description/>
  <dc:language>en-US</dc:language>
  <cp:lastModifiedBy>jalvarez</cp:lastModifiedBy>
  <cp:lastPrinted>2006-05-19T15:19:42Z</cp:lastPrinted>
  <dcterms:modified xsi:type="dcterms:W3CDTF">2011-05-02T15:29:05Z</dcterms:modified>
  <cp:revision>58</cp:revision>
  <dc:subject/>
  <dc:title>Sin título de diapositiva</dc:title>
</cp:coreProperties>
</file>