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D5E-D7FE-4F91-8349-BE00E12E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FBE-5045-4734-8D76-5D46F40E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91B-A428-4AD3-840A-C0D95DCF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EAA-E2DF-4E59-8C4F-A46E19CF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E8E-690D-4029-AA44-3FDDD739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071-EEBF-49AA-9934-45D98266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DD7-B311-4EF0-906C-7B50ED83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BBC-ABD7-42A6-B0D3-52EA98A9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A22-0C6E-485C-8A3E-E902EBB9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30A-68FA-4348-8664-66145474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35D-595F-42BB-8887-82698F5B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996-D774-4602-8DD4-119EE357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3B6B-75F8-476C-96A4-C178C1580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635040" y="477720"/>
          <a:ext cx="7956360" cy="6705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040" y="477720"/>
                    <a:ext cx="79563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625320" y="428760"/>
          <a:ext cx="8015400" cy="65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625320" y="428760"/>
          <a:ext cx="808200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8200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625320" y="428760"/>
          <a:ext cx="8015400" cy="65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635040" y="477720"/>
          <a:ext cx="795636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477720"/>
                    <a:ext cx="79563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Rectángulo"/>
          <p:cNvSpPr/>
          <p:nvPr/>
        </p:nvSpPr>
        <p:spPr>
          <a:xfrm>
            <a:off x="179280" y="189000"/>
            <a:ext cx="878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ir lista de n "filas" y 4 "column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=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uardar sección, nombre y notas de pregunta 1 en una 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1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append( [linea[0],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ea[1:21],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(linea[21:23])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uardar notas de pregunt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2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buscar no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len(L)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L[i][1]==linea[1:21]: 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[i].append(int(linea[21:23])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Rectángulo"/>
          <p:cNvSpPr/>
          <p:nvPr/>
        </p:nvSpPr>
        <p:spPr>
          <a:xfrm>
            <a:off x="468360" y="404640"/>
            <a:ext cx="813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alcular y guardar planilla final orden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sort() #ordenar por sección y no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=open("notas.txt","w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len(L)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medio=int((L[i][2]+L[i][3])/2.0+0.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write(L[i][0]+  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[i][1]+  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L[i][2])+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L[i][3])+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promedio)+"\n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403200" y="469800"/>
          <a:ext cx="8427960" cy="57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4"/>
          <p:cNvGraphicFramePr/>
          <p:nvPr/>
        </p:nvGraphicFramePr>
        <p:xfrm>
          <a:off x="379440" y="304920"/>
          <a:ext cx="861696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304920"/>
                    <a:ext cx="861696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03200" y="477720"/>
          <a:ext cx="851868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77720"/>
                    <a:ext cx="85186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271440" y="247680"/>
          <a:ext cx="8691480" cy="67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247680"/>
                    <a:ext cx="8691480" cy="67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403200" y="469800"/>
          <a:ext cx="8427960" cy="612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1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4"/>
          <p:cNvGraphicFramePr/>
          <p:nvPr/>
        </p:nvGraphicFramePr>
        <p:xfrm>
          <a:off x="452520" y="304920"/>
          <a:ext cx="8066160" cy="80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452520" y="304920"/>
          <a:ext cx="8066160" cy="80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03200" y="469800"/>
          <a:ext cx="8427960" cy="661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61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11-05-02T15:29:05Z</dcterms:modified>
  <cp:revision>58</cp:revision>
  <dc:subject/>
  <dc:title>Sin título de diapositiva</dc:title>
</cp:coreProperties>
</file>