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1DFC0FF-FBFA-4471-B330-0BE6AF7EE0B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C9D867-F1D3-48EE-8542-14E9027B961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C0F-EC8A-4E6F-BD97-773DD1C3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513-5D62-4C41-B389-3B1B1068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201-2ADF-4B59-8FBF-5FE4AE13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BED-5566-4440-9D52-30F53771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6E2-9B06-4906-AC09-5751928B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882A-7761-469D-B6CF-C863271C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265-C53F-4966-952C-D5B7849C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7BA-9AE4-44B5-8D61-30E6EA62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478-1830-42A3-BCD0-2254A445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7A0-FC42-409F-A6CE-769FE966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852-8C8E-4BC2-88F6-B9462D7F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1B6-B8BD-4E87-A30B-22445073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3B31-EC1A-40EC-A2EA-E3F5C7B12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754200" y="603360"/>
          <a:ext cx="8061120" cy="58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3360"/>
                    <a:ext cx="806112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603360" y="620640"/>
          <a:ext cx="8026200" cy="57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603360" y="620640"/>
          <a:ext cx="8026200" cy="570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603360" y="620640"/>
          <a:ext cx="8026200" cy="57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179280" y="260280"/>
          <a:ext cx="8753760" cy="59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75376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17600" y="177840"/>
          <a:ext cx="8192880" cy="63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77840"/>
                    <a:ext cx="8192880" cy="63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274680" y="266760"/>
          <a:ext cx="8763120" cy="68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266760"/>
                    <a:ext cx="8763120" cy="68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14440" y="469800"/>
          <a:ext cx="8061120" cy="58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69800"/>
                    <a:ext cx="80611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514440" y="469800"/>
          <a:ext cx="8061120" cy="58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69800"/>
                    <a:ext cx="80611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595440" y="595440"/>
          <a:ext cx="81756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595440"/>
                    <a:ext cx="81756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93760" y="177840"/>
          <a:ext cx="8548560" cy="67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77840"/>
                    <a:ext cx="8548560" cy="67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603360" y="620640"/>
          <a:ext cx="8184960" cy="58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18496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25520" y="461880"/>
          <a:ext cx="8558280" cy="600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461880"/>
                    <a:ext cx="855828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4880" y="160200"/>
          <a:ext cx="8158320" cy="689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60200"/>
                    <a:ext cx="8158320" cy="689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11-04-23T13:30:18Z</dcterms:modified>
  <cp:revision>49</cp:revision>
  <dc:subject/>
  <dc:title>Sin título de diapositiva</dc:title>
</cp:coreProperties>
</file>