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A21CA4-6E48-48D5-B34E-6808A8945CE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852720" y="938052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86E4E7C-874F-4CAB-91E7-817C77C81BA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04680" y="4689360"/>
            <a:ext cx="49878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A8D-4A71-4D15-977A-CEC39059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A84-8114-48DA-BA49-15A1132F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9777-1B3E-4910-B040-58769CB8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1F0-42FA-455C-8DCC-B173A92A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4B5-79F1-4C23-9265-D7A85F0D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2F57-FEC2-4904-B03E-FA59C802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9E8-7709-42B0-B52E-7DBDB61B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515D-9667-4D49-AC70-D407B482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ED5C-25B7-43C8-926D-9928A826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1199-8E39-4685-9FAD-89DF2704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BE0-3D6E-4514-ACDA-E56DC84C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8DE-5597-4510-83E5-F8503A11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F3F5-20D6-42A1-9D1F-2BB1E80AB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754200" y="603360"/>
          <a:ext cx="8061120" cy="58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3360"/>
                    <a:ext cx="806112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603360" y="620640"/>
          <a:ext cx="8026200" cy="571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603360" y="620640"/>
          <a:ext cx="8026200" cy="570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0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603360" y="620640"/>
          <a:ext cx="802620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2620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179280" y="260280"/>
          <a:ext cx="8753760" cy="59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60280"/>
                    <a:ext cx="8753760" cy="59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17600" y="177840"/>
          <a:ext cx="8192880" cy="63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177840"/>
                    <a:ext cx="8192880" cy="63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274680" y="266760"/>
          <a:ext cx="8763120" cy="68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266760"/>
                    <a:ext cx="8763120" cy="68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14440" y="469800"/>
          <a:ext cx="8061120" cy="58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69800"/>
                    <a:ext cx="80611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514440" y="469800"/>
          <a:ext cx="8061120" cy="580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69800"/>
                    <a:ext cx="8061120" cy="580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595440" y="595440"/>
          <a:ext cx="81756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595440"/>
                    <a:ext cx="81756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93760" y="177840"/>
          <a:ext cx="8548560" cy="671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177840"/>
                    <a:ext cx="8548560" cy="67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603360" y="620640"/>
          <a:ext cx="8184960" cy="58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84960" cy="58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25520" y="461880"/>
          <a:ext cx="8558280" cy="600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461880"/>
                    <a:ext cx="8558280" cy="60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434880" y="160200"/>
          <a:ext cx="8158320" cy="689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880" y="160200"/>
                    <a:ext cx="8158320" cy="689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6-05-09T15:34:00Z</cp:lastPrinted>
  <dcterms:modified xsi:type="dcterms:W3CDTF">2011-04-23T13:30:18Z</dcterms:modified>
  <cp:revision>49</cp:revision>
  <dc:subject/>
  <dc:title>Sin título de diapositiva</dc:title>
</cp:coreProperties>
</file>