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89360"/>
            <a:ext cx="4987800" cy="4445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57A2314-E268-4B1D-A57D-A39827213AF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2CB7119-D049-48A4-993F-F16D6750753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04680" y="4689360"/>
            <a:ext cx="4987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090-9360-46DE-BDCF-A3907FC9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C125-4696-41BD-BB4B-8F20C62F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B6E-60D9-424B-8C84-2657527E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2458-9D9F-4FDF-A200-12A95A86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DE24-1D41-4E3E-AB0A-96FDF418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C43-D7E3-474D-A97C-B1FF8096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566-E689-4B19-A242-2FA659D1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71F9-4BDB-4400-9669-03D51D4C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F5E-5E33-4744-99AB-D32037A6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C17-ECBD-4E67-A21C-AA6B38A1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1D4-A499-480E-8B26-7E477656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10A-12FE-471A-A05D-4FA4ECF8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DDCE-148D-4AA3-ADC6-720A979A2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754200" y="603360"/>
          <a:ext cx="8061120" cy="58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3360"/>
                    <a:ext cx="8061120" cy="58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603360" y="620640"/>
          <a:ext cx="8026200" cy="57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26200" cy="57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603360" y="620640"/>
          <a:ext cx="8026200" cy="570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26200" cy="570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603360" y="620640"/>
          <a:ext cx="8026200" cy="57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26200" cy="57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179280" y="260280"/>
          <a:ext cx="8753760" cy="59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75376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17600" y="177840"/>
          <a:ext cx="8192880" cy="63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177840"/>
                    <a:ext cx="8192880" cy="63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274680" y="266760"/>
          <a:ext cx="8763120" cy="68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266760"/>
                    <a:ext cx="8763120" cy="68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514440" y="469800"/>
          <a:ext cx="8061120" cy="580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69800"/>
                    <a:ext cx="8061120" cy="58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514440" y="469800"/>
          <a:ext cx="8061120" cy="580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69800"/>
                    <a:ext cx="8061120" cy="58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595440" y="595440"/>
          <a:ext cx="817560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595440"/>
                    <a:ext cx="817560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293760" y="177840"/>
          <a:ext cx="8548560" cy="671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77840"/>
                    <a:ext cx="8548560" cy="67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603360" y="620640"/>
          <a:ext cx="8184960" cy="58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184960" cy="58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25520" y="461880"/>
          <a:ext cx="8558280" cy="600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461880"/>
                    <a:ext cx="855828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4880" y="160200"/>
          <a:ext cx="8158320" cy="689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60200"/>
                    <a:ext cx="8158320" cy="689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6-05-09T15:34:00Z</cp:lastPrinted>
  <dcterms:modified xsi:type="dcterms:W3CDTF">2011-04-23T13:30:18Z</dcterms:modified>
  <cp:revision>49</cp:revision>
  <dc:subject/>
  <dc:title>Sin título de diapositiva</dc:title>
</cp:coreProperties>
</file>