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7E3AC1-A685-4A83-B153-999E920D8F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FCF6EF-A835-475A-87C9-E9387635F2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5F7-16CF-4794-A832-C5A2B1B9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3E7-C712-47B7-BCEF-98D6A0D7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EFF-9DB1-4DEC-80D4-DD303613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449-1B94-44D2-BB3F-DFD59F97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9B8-5604-45F6-8C70-48AACA1C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503-2825-4549-AE56-10FFECD0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DA3-5DC1-465F-9ACF-449CC80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95A-C896-4471-9E6E-50686D67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A26-88F5-419B-B213-A57D3E6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F0F-53DA-4531-B9BE-DC9A8F97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5E7-605C-4E3B-B458-30D110A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DD6-52DB-4D39-81DC-98C0457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18D-7CBA-4C1E-8784-D714D59A3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3360"/>
          <a:ext cx="806112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3360"/>
                    <a:ext cx="806112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603360" y="620640"/>
          <a:ext cx="802620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03360" y="620640"/>
          <a:ext cx="8026200" cy="57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603360" y="620640"/>
          <a:ext cx="802620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79280" y="260280"/>
          <a:ext cx="875376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5376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17600" y="177840"/>
          <a:ext cx="8192880" cy="63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77840"/>
                    <a:ext cx="8192880" cy="63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74680" y="266760"/>
          <a:ext cx="8763120" cy="68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595440" y="595440"/>
          <a:ext cx="8175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595440"/>
                    <a:ext cx="8175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93760" y="177840"/>
          <a:ext cx="8548560" cy="67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77840"/>
                    <a:ext cx="8548560" cy="67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03360" y="620640"/>
          <a:ext cx="818496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849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461880"/>
          <a:ext cx="8558280" cy="600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461880"/>
                    <a:ext cx="855828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4880" y="160200"/>
          <a:ext cx="8158320" cy="689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0200"/>
                    <a:ext cx="8158320" cy="68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1-04-23T13:30:18Z</dcterms:modified>
  <cp:revision>49</cp:revision>
  <dc:subject/>
  <dc:title>Sin título de diapositiva</dc:title>
</cp:coreProperties>
</file>