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41C3-1664-475B-B3BB-D75EE795A22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8EE2-C520-4D4A-9FE2-981AE6BF48C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C707-A4A7-49F2-B82B-6C04EFCC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4348-B0E1-4E1A-85D5-D3E602F2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D010-EF46-4053-9DD9-44604B036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EF50-D688-4F16-8895-3DE61E201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6126-93F5-49D9-8762-04387C99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F132-0467-4DC6-8784-41081D87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ED11-4097-4C0F-922D-31137CD2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3654-8D37-4E4E-89F1-B067AF0D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0FB6-AD48-46EB-B00E-ECA81750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7883-DBDD-48A7-9038-0DCB2D7F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6449-ECA3-4078-9F7A-C88E2684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EC13-002C-40F0-9DBB-1B0C8F24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J.Alvar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6F0B-1EF2-4875-82B9-02911D80768D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457200" y="274680"/>
            <a:ext cx="830592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paso/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ntroducción a la programación Orientada a Ob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468360" y="1557360"/>
            <a:ext cx="829476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ases y ob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ent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bujos y Grá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19040" y="343080"/>
          <a:ext cx="8429760" cy="67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429760" cy="67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419040" y="343080"/>
          <a:ext cx="854388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54388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419040" y="371520"/>
          <a:ext cx="8496360" cy="65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71520"/>
                    <a:ext cx="8496360" cy="65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228600" y="152280"/>
          <a:ext cx="865836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865836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Rectángulo"/>
          <p:cNvSpPr/>
          <p:nvPr/>
        </p:nvSpPr>
        <p:spPr>
          <a:xfrm>
            <a:off x="250920" y="380880"/>
            <a:ext cx="8893080" cy="55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X=random.randint(1,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marco para agrupar pregunta y nu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=Frame(vent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.pac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pregunta=Label(marco,text="X(1-100)?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pregunta.pack(side=LE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numero=Entry(mar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numero.pac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numero.bind("&lt;Return&gt;",obtenerNum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respuesta y botón en vent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=Label(vent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pac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=Button(ventana,text="me rindo",command=rendi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.pac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2"/>
          <p:cNvGraphicFramePr/>
          <p:nvPr/>
        </p:nvGraphicFramePr>
        <p:xfrm>
          <a:off x="457200" y="816120"/>
          <a:ext cx="8448840" cy="536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16120"/>
                    <a:ext cx="8448840" cy="53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4"/>
          <p:cNvGraphicFramePr/>
          <p:nvPr/>
        </p:nvGraphicFramePr>
        <p:xfrm>
          <a:off x="399960" y="419040"/>
          <a:ext cx="8467920" cy="718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419040"/>
                    <a:ext cx="8467920" cy="718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2038320" cy="2295720"/>
          </a:xfrm>
          <a:prstGeom prst="rect">
            <a:avLst/>
          </a:prstGeom>
          <a:ln w="0">
            <a:noFill/>
          </a:ln>
        </p:spPr>
      </p:pic>
      <p:sp>
        <p:nvSpPr>
          <p:cNvPr id="78" name="4 Rectángulo"/>
          <p:cNvSpPr/>
          <p:nvPr/>
        </p:nvSpPr>
        <p:spPr>
          <a:xfrm>
            <a:off x="755640" y="292428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=Tortuga(W/2,W/2,cv)#tortuga al me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repetir N v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i&lt;=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i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avanzar tortuga en L(dibujando lin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avanzar(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irar tortu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girar(360.0/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51280" y="274320"/>
            <a:ext cx="483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ibujos con Tortu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5"/>
          <p:cNvGraphicFramePr/>
          <p:nvPr/>
        </p:nvGraphicFramePr>
        <p:xfrm>
          <a:off x="399960" y="257040"/>
          <a:ext cx="8267760" cy="6267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960" y="257040"/>
                    <a:ext cx="8267760" cy="62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57200" y="-316080"/>
            <a:ext cx="8686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25092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#inverso(“roma”)=“am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=“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or c in x: s=c+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x): #recurs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 x==“”: return “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inverso(x[1:])+x[0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#capicua(“reconocer”)=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ef capicua(x): return x==inverso(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#determinar si una frase es capicú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rase=raw_input(“frase?”).replace(“ “,””).lower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 capicua(frase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 “capicu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 “no es capicu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250920" y="144000"/>
            <a:ext cx="8713800" cy="73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grabar líneas con información correc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nombre alfabético y nota num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brir archivos de lectura y escri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open(“notas.txt”,”r”)  #para l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open(“notas1.txt”,”w”) #para escri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leer todas las lin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si nombre es alfabético y nota num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linea[0:20].replace(“ “,””).isalpha()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nd linea[20:22].replace(“ “,””).isdigit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grabar en arch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b.write(lin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cerrar 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b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179280" y="916560"/>
            <a:ext cx="878544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promedio de notas y % de aprob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uma=alumnos=aprobados=0 #asignación “múltip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=open(“notas1.txt”) #2º parámetro “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lumnos += 1 #alumnos=alumnos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ota=int(linea[20:22]) #conversión a 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uma +=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nota&gt;=40: aprobados +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“promedio”,suma/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“% aprobados=“, 100.0*aprobados/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179280" y="460800"/>
            <a:ext cx="827892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lumnos con mejor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Nota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es=“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=open(“notas1.txt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obtener nombre y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ombre=linea[0:2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ota=int(linea[20:22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mantener alumnos con mejor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nota&gt;mejorNo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Nota=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es=n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elif nota==mejorNo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es += “\n” + n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“mejores alumnos:\n”+mej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397080" y="124200"/>
            <a:ext cx="6581520" cy="58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álogo del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stante1(HH:MM)?XX:XX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stante2(HH:MM)?XX: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= HH: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erencia= HH: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= HH: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1=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empo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raw_input(“Instante1(HH:MM)?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“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2=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empo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raw_input(“Instante2(HH:MM)?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“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Suma=“,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1+T2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#T1.__add__(T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Diferencia=“,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1-T2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#T1.__sub__(T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1 &gt; T2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              #T1.__gt__(T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Mayor=“,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1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#T1.__st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Mayor=“,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5"/>
          <p:cNvGraphicFramePr/>
          <p:nvPr/>
        </p:nvGraphicFramePr>
        <p:xfrm>
          <a:off x="419040" y="343080"/>
          <a:ext cx="8410680" cy="627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410680" cy="62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419040" y="343080"/>
          <a:ext cx="8439120" cy="625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439120" cy="62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3:16:51Z</dcterms:created>
  <dc:creator> iara</dc:creator>
  <dc:description/>
  <dc:language>en-US</dc:language>
  <cp:lastModifiedBy>Victor Ramiro</cp:lastModifiedBy>
  <cp:lastPrinted>2006-04-25T18:59:03Z</cp:lastPrinted>
  <dcterms:modified xsi:type="dcterms:W3CDTF">2011-04-26T18:26:36Z</dcterms:modified>
  <cp:revision>105</cp:revision>
  <dc:subject/>
  <dc:title>Diapositiva 1</dc:title>
</cp:coreProperties>
</file>