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E33F-D1E3-4F58-8918-FDCD8B45D2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3D4-BD5A-4192-B1BE-20E0EDAFBC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126-5B2F-4861-B916-7AD978EA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A74-F03B-4808-B871-AB3EC276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37D-59D0-4F65-8E36-B241C713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01B-9236-4D0C-8D2B-F223B768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7B5-F44E-42D7-A366-79E2F85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187-F7F2-4D1C-B504-A71B5CA0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D8C-6EEF-4D3C-8EDA-F0EF27F3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1C2-741D-457E-9248-785F395A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231-FE21-48EF-97DE-3D7A226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85F-E0E7-4B8D-9D9A-76F5201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D6E-6A9D-4A42-A478-3087CDBB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06A-353A-4C2C-8FE5-332DECAB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9838-7021-4386-A4A3-84550D6B229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troducción a la programación Orientada a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1557360"/>
            <a:ext cx="82947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os y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19040" y="343080"/>
          <a:ext cx="854388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228600" y="152280"/>
          <a:ext cx="86583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6583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250920" y="380880"/>
            <a:ext cx="8893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X=random.randint(1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nu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X(1-100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=Entry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.bind("&lt;Return&gt;",obtenerNu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spuesta y botón en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=Label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entana,text="me rindo",command=ren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57200" y="816120"/>
          <a:ext cx="8448840" cy="53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16120"/>
                    <a:ext cx="8448840" cy="53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99960" y="419040"/>
          <a:ext cx="8467920" cy="718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9040"/>
                    <a:ext cx="8467920" cy="718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038320" cy="2295720"/>
          </a:xfrm>
          <a:prstGeom prst="rect">
            <a:avLst/>
          </a:prstGeom>
          <a:ln w="0">
            <a:noFill/>
          </a:ln>
        </p:spPr>
      </p:pic>
      <p:sp>
        <p:nvSpPr>
          <p:cNvPr id="78" name="4 Rectángulo"/>
          <p:cNvSpPr/>
          <p:nvPr/>
        </p:nvSpPr>
        <p:spPr>
          <a:xfrm>
            <a:off x="755640" y="2924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ortuga(W/2,W/2,cv)#tortuga al 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bujos con Tort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99960" y="257040"/>
          <a:ext cx="8267760" cy="626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6776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inverso(“roma”)=“a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=“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c in x: s=c+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 #recur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x==“”: return “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capicua(“reconocer”)=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se=raw_input(“frase?”).replace(“ “,””).lower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0920" y="144000"/>
            <a:ext cx="87138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nombre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5"/>
          <p:cNvGraphicFramePr/>
          <p:nvPr/>
        </p:nvGraphicFramePr>
        <p:xfrm>
          <a:off x="419040" y="343080"/>
          <a:ext cx="841068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Victor Ramiro</cp:lastModifiedBy>
  <cp:lastPrinted>2006-04-25T18:59:03Z</cp:lastPrinted>
  <dcterms:modified xsi:type="dcterms:W3CDTF">2011-04-26T18:26:36Z</dcterms:modified>
  <cp:revision>105</cp:revision>
  <dc:subject/>
  <dc:title>Diapositiva 1</dc:title>
</cp:coreProperties>
</file>