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910-D0A3-4DD5-A359-628D7B4D59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7AB-198A-4494-8877-D7812DEEC8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3EA-D210-47DE-8BC9-C3C303E3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7FC-A8EA-4E4C-A37E-C4AA5753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621-1253-426F-961F-8A1DCD8B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635-F826-4556-B12A-0C267450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06B-8CD4-41D2-BEEC-4FD87A9A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882-63EC-4F94-B224-48AEA6E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DAA-70E1-4CAB-B5C0-0CD7B503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A38-4AA2-4F55-8CF4-F0CCB031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C38-8CAC-4391-BDC3-FBCA0D7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792-E8F5-45D2-8033-F4E3651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0AC-202D-4189-9565-72B6A24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B85-6B6A-4A3A-8C44-A6963F2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696-0DAB-4BBE-9429-6F980DC50E2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28600" y="152280"/>
          <a:ext cx="86583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583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380880"/>
            <a:ext cx="8893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57200" y="816120"/>
          <a:ext cx="8448840" cy="53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16120"/>
                    <a:ext cx="844884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9960" y="419040"/>
          <a:ext cx="8467920" cy="718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9040"/>
                    <a:ext cx="8467920" cy="718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038320" cy="2295720"/>
          </a:xfrm>
          <a:prstGeom prst="rect">
            <a:avLst/>
          </a:prstGeom>
          <a:ln w="0">
            <a:noFill/>
          </a:ln>
        </p:spPr>
      </p:pic>
      <p:sp>
        <p:nvSpPr>
          <p:cNvPr id="78" name="4 Rectángulo"/>
          <p:cNvSpPr/>
          <p:nvPr/>
        </p:nvSpPr>
        <p:spPr>
          <a:xfrm>
            <a:off x="755640" y="292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ortuga(W/2,W/2,cv)#tortuga al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bujos con Tort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Victor Ramiro</cp:lastModifiedBy>
  <cp:lastPrinted>2006-04-25T18:59:03Z</cp:lastPrinted>
  <dcterms:modified xsi:type="dcterms:W3CDTF">2011-04-26T18:26:36Z</dcterms:modified>
  <cp:revision>105</cp:revision>
  <dc:subject/>
  <dc:title>Diapositiva 1</dc:title>
</cp:coreProperties>
</file>