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50B-8FE5-42BF-9A30-E5CAB8C873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1F32-D6F2-478C-87F9-1FCA88F60D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6B6-992D-4228-887F-935B385B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FD7-2EDF-4577-B267-098DDAAB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98B-3E81-4C4D-B6C8-8E07FC73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A09-9B97-4E6F-BA6E-750BED90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30B-6119-4303-8E39-2C7E0FCF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EC1-B431-4ACB-BE19-38D87CBC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0C4-B41D-405F-92A8-DB7B3277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445-2FBD-4EDA-A893-4B527CDD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B6E-D5B3-46EB-962D-C3692F68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035-D3D8-4005-9AA8-EDE66190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08B-8747-47F7-863A-4BA059D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F1C-592D-416F-BFC6-1D09873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4683-B850-49E1-8D14-8469A931483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troducción a la programación Orientada a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1557360"/>
            <a:ext cx="82947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os y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19040" y="343080"/>
          <a:ext cx="8429760" cy="67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19040" y="343080"/>
          <a:ext cx="854388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228600" y="152280"/>
          <a:ext cx="865836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65836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250920" y="380880"/>
            <a:ext cx="8893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X=random.randint(1,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nu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X(1-100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=Entry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o.bind("&lt;Return&gt;",obtenerNu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spuesta y botón en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=Label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entana,text="me rindo",command=ren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457200" y="816120"/>
          <a:ext cx="8448840" cy="53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16120"/>
                    <a:ext cx="8448840" cy="53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99960" y="419040"/>
          <a:ext cx="8467920" cy="718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9040"/>
                    <a:ext cx="8467920" cy="718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038320" cy="2295720"/>
          </a:xfrm>
          <a:prstGeom prst="rect">
            <a:avLst/>
          </a:prstGeom>
          <a:ln w="0">
            <a:noFill/>
          </a:ln>
        </p:spPr>
      </p:pic>
      <p:sp>
        <p:nvSpPr>
          <p:cNvPr id="78" name="4 Rectángulo"/>
          <p:cNvSpPr/>
          <p:nvPr/>
        </p:nvSpPr>
        <p:spPr>
          <a:xfrm>
            <a:off x="755640" y="2924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ortuga(W/2,W/2,cv)#tortuga al 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bujos con Tort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99960" y="257040"/>
          <a:ext cx="8267760" cy="626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6776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inverso(“roma”)=“a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=“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c in x: s=c+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 #recur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x==“”: return “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capicua(“reconocer”)=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se=raw_input(“frase?”).replace(“ “,””).lower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50920" y="144000"/>
            <a:ext cx="87138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nombre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9280" y="916560"/>
            <a:ext cx="87854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#T1.__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5"/>
          <p:cNvGraphicFramePr/>
          <p:nvPr/>
        </p:nvGraphicFramePr>
        <p:xfrm>
          <a:off x="419040" y="343080"/>
          <a:ext cx="841068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19040" y="343080"/>
          <a:ext cx="8439120" cy="62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39120" cy="62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Victor Ramiro</cp:lastModifiedBy>
  <cp:lastPrinted>2006-04-25T18:59:03Z</cp:lastPrinted>
  <dcterms:modified xsi:type="dcterms:W3CDTF">2011-04-26T18:26:36Z</dcterms:modified>
  <cp:revision>105</cp:revision>
  <dc:subject/>
  <dc:title>Diapositiva 1</dc:title>
</cp:coreProperties>
</file>