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4.png" ContentType="image/png"/>
  <Override PartName="/ppt/media/image2.png" ContentType="image/png"/>
  <Override PartName="/ppt/media/image3.png" ContentType="image/png"/>
  <Override PartName="/ppt/media/image5.pct" ContentType="image/x-pict"/>
  <Override PartName="/ppt/media/image7.wmf" ContentType="image/x-wmf"/>
  <Override PartName="/ppt/media/image8.png" ContentType="image/png"/>
  <Override PartName="/ppt/media/image6.wmf" ContentType="image/x-wmf"/>
  <Override PartName="/ppt/media/image11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2040" cy="48276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t">
            <a:noAutofit/>
          </a:bodyPr>
          <a:p>
            <a:pPr indent="0">
              <a:buNone/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Clase 13: Dibujos y Gráfic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080" y="-360"/>
            <a:ext cx="3003480" cy="48276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74280"/>
            <a:ext cx="4632480" cy="34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8040" y="4436640"/>
            <a:ext cx="5133960" cy="414972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8960"/>
            <a:ext cx="3002040" cy="48240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080" y="8778960"/>
            <a:ext cx="3003480" cy="48240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b">
            <a:noAutofit/>
          </a:bodyPr>
          <a:lstStyle>
            <a:lvl1pPr indent="0" algn="r">
              <a:buNone/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  <a:defRPr b="0" lang="es-ES_tradnl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fld id="{B2187562-44D9-42B4-BD06-8B6AAAE99876}" type="slidenum"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71440" y="67464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68040" y="4436640"/>
            <a:ext cx="51339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Header Placeholder 3"/>
          <p:cNvSpPr/>
          <p:nvPr/>
        </p:nvSpPr>
        <p:spPr>
          <a:xfrm>
            <a:off x="0" y="0"/>
            <a:ext cx="30020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200" rIns="115200" tIns="57600" bIns="57600" anchor="t">
            <a:noAutofit/>
          </a:bodyPr>
          <a:p>
            <a:pPr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Clase 13: Dibujos y Gráfic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ooter Placeholder 4"/>
          <p:cNvSpPr/>
          <p:nvPr/>
        </p:nvSpPr>
        <p:spPr>
          <a:xfrm>
            <a:off x="0" y="8778960"/>
            <a:ext cx="30020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200" rIns="115200" tIns="57600" bIns="57600" anchor="b">
            <a:noAutofit/>
          </a:bodyPr>
          <a:p>
            <a:pPr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4A89-AD0E-4A5D-BB43-DC03D6B6B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012B-F680-4D40-B8C2-F5B36484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9C60-9D56-49CB-B3ED-F96289BB2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3B67-6504-4ED5-BAFF-049AD23E7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208E-AB42-4EDC-B883-E3FDAEFE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B823-A8EB-42B7-AA8D-976733379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3759-E0AF-4A03-A465-AF1E6A7D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5DD0-5FC1-4036-9DB6-9CB650E1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D505-A2CE-4A2A-A337-E01302B8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8AE1-93F5-46B0-BDD0-B3A440AE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9CA0-4145-4BE8-A446-93378F55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1E4B-7DC8-48C1-B0F7-29C27EE9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A022-4762-46A9-AB21-6FF74219B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GUI: Estructura de uso comú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lase para interfaz con el usu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pon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étodos para atender ev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gram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a objeto para la vent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a objeto para la interfaz (de la venta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op” de espera de ev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4"/>
          <p:cNvGraphicFramePr/>
          <p:nvPr/>
        </p:nvGraphicFramePr>
        <p:xfrm>
          <a:off x="177840" y="195120"/>
          <a:ext cx="8825040" cy="686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95120"/>
                    <a:ext cx="8825040" cy="686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250920" y="299520"/>
            <a:ext cx="871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actualizar angulo: sumar x (en radia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girar(self,x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dianes=x*math.pi/18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angulo += radi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dibujar línea y reubicar tortu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vanzar(self,x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nuevas coordena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f = self.h + int(x*math.cos(self.angulo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f = self.v - int(x*math.sin(self.angulo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dibujar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v.create_line(self.h,self.v,hf,v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actualizar ubicación de tortu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h=h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v=v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5567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lígono regular de N lados de tamaño L (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L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 y N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84000" y="3141720"/>
            <a:ext cx="701676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repetir n ve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i&lt;=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=i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avanzar tortuga en L(dibujando line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.avanzar(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girar tortu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.girar(360.0/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203868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11280" y="549360"/>
          <a:ext cx="7846920" cy="5935680"/>
        </p:xfrm>
        <a:graphic>
          <a:graphicData uri="http://schemas.openxmlformats.org/drawingml/2006/table">
            <a:tbl>
              <a:tblPr/>
              <a:tblGrid>
                <a:gridCol w="1512720"/>
                <a:gridCol w="1656000"/>
                <a:gridCol w="1512720"/>
                <a:gridCol w="1584360"/>
                <a:gridCol w="1581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anz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r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rtuga 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rizontal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tical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b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b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1 Rectángulo"/>
          <p:cNvSpPr/>
          <p:nvPr/>
        </p:nvSpPr>
        <p:spPr>
          <a:xfrm>
            <a:off x="395280" y="476280"/>
            <a:ext cx="79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ota. Existe clase predefinida en Phy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urtle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=Turtl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.left(4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i&lt;=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.forward(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.left(9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=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4"/>
          <p:cNvGraphicFramePr/>
          <p:nvPr/>
        </p:nvGraphicFramePr>
        <p:xfrm>
          <a:off x="293760" y="160200"/>
          <a:ext cx="7881840" cy="663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760" y="160200"/>
                    <a:ext cx="7881840" cy="663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1 Rectángulo"/>
          <p:cNvSpPr/>
          <p:nvPr/>
        </p:nvSpPr>
        <p:spPr>
          <a:xfrm>
            <a:off x="250920" y="260280"/>
            <a:ext cx="8713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, W, H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ventana = ventana;self.W=W; self.H =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=Canvas(self.ventana,width=W,height=H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g="white")#fo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dibujar e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line(0,H-1,W,H-1) #horizo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line(W/2,0,W/2,H) #ver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0=0; v0=0 #coordenadas comienzo primera li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iterar con x=-100,-90,…,-10,0,10,…,90,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-10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&lt;=100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=x*x #valor de la fu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 = int(W*(x+100)/200 + 0.5) #coord horizo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 = H - int(H*y/10000 + 0.5) #coord ver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line(h0,v0,h,v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0=h; v0=v #actualizar coordenadas comienzo lí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 +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399960" y="417600"/>
          <a:ext cx="8487000" cy="719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417600"/>
                    <a:ext cx="8487000" cy="71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250920" y="189720"/>
            <a:ext cx="889308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graficar seno con 20 ptos entre 0 y 2*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m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=Canvas(ventana,width=200,height=100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g="white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raficar(math.sin,20,0,2*math.pi,cv,200,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graficar x*x con 20 ptos entre -100 y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uadrad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): return x*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v=Canvas(ventana,width=200,height=200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g="white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ficar(cuadrado,20,-100,100,cv,200,2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1 Rectángulo"/>
          <p:cNvSpPr/>
          <p:nvPr/>
        </p:nvSpPr>
        <p:spPr>
          <a:xfrm>
            <a:off x="324000" y="260280"/>
            <a:ext cx="871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graficar f usando n puntos de [a,b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en canvas cv de WxH pix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graficar(f,n,a,b,cv,W,H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determinar minimo y maximo de f en [a,b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inimo=f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o=f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lta=(b-a)/(n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a+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= b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=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inimo=min(y,minim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o=max(y,maxim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 + 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152280" y="152280"/>
            <a:ext cx="86108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DibujaVenta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ventana = ventan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guardo la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aca agregamos los componentes a la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aca agregamos los metodos que manejan ev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maneja_click(self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maneja_bind(self, x): # x representa al “event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el programa principal (puede ser en otro archiv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 = Tk()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creamos la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objeto que agrega los componentes a la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faz = DibujaVentana(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mostramos la ventana y esperamos los even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que son manejados por el objeto interfa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1 Rectángulo"/>
          <p:cNvSpPr/>
          <p:nvPr/>
        </p:nvSpPr>
        <p:spPr>
          <a:xfrm>
            <a:off x="179280" y="333360"/>
            <a:ext cx="871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graficar fun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0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0=H-coordenadaPixel(f(a),minimo,maximo,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a+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&lt;=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=coordenadaPixel(x,a,b,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=H-coordenadaPixel(f(x),minimo,maximo,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line(h0,v0,h,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0=h; v0=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x+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convertir x en [y,z] a coord [0,w] de pixel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coordenadaPixel(x,y,z,w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int(w*(x-y)/(z-y)+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539640" y="147600"/>
          <a:ext cx="7564680" cy="671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7600"/>
                    <a:ext cx="7564680" cy="671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344520" y="436680"/>
          <a:ext cx="8188200" cy="594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520" y="436680"/>
                    <a:ext cx="8188200" cy="59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3 Rectángulo"/>
          <p:cNvSpPr/>
          <p:nvPr/>
        </p:nvSpPr>
        <p:spPr>
          <a:xfrm>
            <a:off x="0" y="2852640"/>
            <a:ext cx="9906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ventana = ven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=Canvas(self.ventan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dth=200,height=2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rectangle(20,40,100,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rectangle(100,100,180,16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ill="black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3059280" y="404640"/>
            <a:ext cx="201924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132000" y="189000"/>
            <a:ext cx="2019600" cy="2276280"/>
          </a:xfrm>
          <a:prstGeom prst="rect">
            <a:avLst/>
          </a:prstGeom>
          <a:ln w="0">
            <a:noFill/>
          </a:ln>
        </p:spPr>
      </p:pic>
      <p:sp>
        <p:nvSpPr>
          <p:cNvPr id="56" name="2 Rectángulo"/>
          <p:cNvSpPr/>
          <p:nvPr/>
        </p:nvSpPr>
        <p:spPr>
          <a:xfrm>
            <a:off x="179280" y="2997360"/>
            <a:ext cx="849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ventana = ven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=Canvas(ventana,width=20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eight=2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oval(20,40,100,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oval(100,100,200,20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ill="black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7010280" y="304920"/>
            <a:ext cx="2000520" cy="2485800"/>
          </a:xfrm>
          <a:prstGeom prst="rect">
            <a:avLst/>
          </a:prstGeom>
          <a:ln w="0">
            <a:noFill/>
          </a:ln>
        </p:spPr>
      </p:pic>
      <p:sp>
        <p:nvSpPr>
          <p:cNvPr id="58" name="2 Rectángulo"/>
          <p:cNvSpPr/>
          <p:nvPr/>
        </p:nvSpPr>
        <p:spPr>
          <a:xfrm>
            <a:off x="0" y="30492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circunferencias al a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ran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Circunferenci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alto=200; self.ancho=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=Button(self.ventan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="circunferencia"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and=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dibujar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=Canvas(self.ventana,width=self.anch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eight=self.alt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.pack(); self.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dibujar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random.randint(0,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ancho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=random.randint(0,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alto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=random.randint(1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in(self.alto,self.ancho)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oval(x-r,y-r,x+r,y+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2"/>
          <p:cNvSpPr/>
          <p:nvPr/>
        </p:nvSpPr>
        <p:spPr>
          <a:xfrm>
            <a:off x="321840" y="838080"/>
            <a:ext cx="79380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DibujaMous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h =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v =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 = Canvas(ventana,width=300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eight=300,bg="white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pack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bind("&lt;Button-1&gt;", self.star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bind("&lt;B1-Motion&gt;",self.draw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start(self, evento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h = evento.x; self.v = evento.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draw(self, evento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line(self.h,self.v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vento.x, evento.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h = evento.x; self.v = evento.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396000" y="304920"/>
            <a:ext cx="28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os de M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4"/>
          <p:cNvGraphicFramePr/>
          <p:nvPr/>
        </p:nvGraphicFramePr>
        <p:xfrm>
          <a:off x="368280" y="417600"/>
          <a:ext cx="8204400" cy="620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417600"/>
                    <a:ext cx="820440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4"/>
          <p:cNvGraphicFramePr/>
          <p:nvPr/>
        </p:nvGraphicFramePr>
        <p:xfrm>
          <a:off x="230040" y="141120"/>
          <a:ext cx="8523360" cy="697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141120"/>
                    <a:ext cx="8523360" cy="697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9:02:33Z</dcterms:created>
  <dc:creator>jalvarez</dc:creator>
  <dc:description/>
  <dc:language>en-US</dc:language>
  <cp:lastModifiedBy>Victor Ramiro</cp:lastModifiedBy>
  <cp:lastPrinted>2006-04-21T23:26:38Z</cp:lastPrinted>
  <dcterms:modified xsi:type="dcterms:W3CDTF">2011-04-20T20:58:18Z</dcterms:modified>
  <cp:revision>133</cp:revision>
  <dc:subject/>
  <dc:title>Sin título de diapositiva</dc:title>
</cp:coreProperties>
</file>