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7.wmf" ContentType="image/x-wmf"/>
  <Override PartName="/ppt/media/image8.png" ContentType="image/png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45B322D3-2D50-4BF3-BDA3-22B7AB347214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3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922-DA45-40C6-975D-C296CE36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26A-31A7-419F-8F71-875C959F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DFF-4B3B-4157-B79A-BCCE7C6F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0A8-C7FB-4AD6-942C-B5EF4DAC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E1E-B77A-4579-BE98-3CCC6F17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E9B-2FB4-40FE-90B7-C18A9969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5D2-B37A-4F0E-8876-24D2BFB9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C31-CF52-404A-A698-E9B41979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F08-9F56-44E1-8A18-98D07FF0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776-2837-422D-94D0-13329C6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7A9-CA34-4D91-BDA3-12E1CAA5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D5F-F321-441F-B8CC-B9D04E7C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DB5-ACBE-4D2B-9452-F9C2C532C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UI: 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25092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, W, H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;self.W=W; self.H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W,height=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189720"/>
            <a:ext cx="889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height=1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324000" y="260280"/>
            <a:ext cx="87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graficar f usando n puntos de [a,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152280"/>
            <a:ext cx="86108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Vent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o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metodos que manejan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click(sel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bind(self, x): # x representa al “ev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el programa principal (puede ser en otro arch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Tk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mos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objeto que agrega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z = DibujaVentan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stramos la ventana y esperamos los ev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e son manejados por el objeto interf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344520" y="436680"/>
          <a:ext cx="8188200" cy="59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436680"/>
                    <a:ext cx="818820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Rectángulo"/>
          <p:cNvSpPr/>
          <p:nvPr/>
        </p:nvSpPr>
        <p:spPr>
          <a:xfrm>
            <a:off x="0" y="2852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100,100,180,16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179280" y="2997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100,100,200,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200052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304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ircun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=200; self.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="circunferencia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ibujar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self.anc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self.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nch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(self.alto,self.ancho)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21840" y="838080"/>
            <a:ext cx="793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Mo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 = Canvas(ventana,width=3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3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utton-1&gt;", self.st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1-Motion&gt;",self.dra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raw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self.h,self.v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o.x, evento.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6000" y="3049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os d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368280" y="417600"/>
          <a:ext cx="8204400" cy="62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417600"/>
                    <a:ext cx="820440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9:02:33Z</dcterms:created>
  <dc:creator>jalvarez</dc:creator>
  <dc:description/>
  <dc:language>en-US</dc:language>
  <cp:lastModifiedBy>Victor Ramiro</cp:lastModifiedBy>
  <cp:lastPrinted>2006-04-21T23:26:38Z</cp:lastPrinted>
  <dcterms:modified xsi:type="dcterms:W3CDTF">2011-04-20T20:58:18Z</dcterms:modified>
  <cp:revision>133</cp:revision>
  <dc:subject/>
  <dc:title>Sin título de diapositiva</dc:title>
</cp:coreProperties>
</file>