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7.wmf" ContentType="image/x-wmf"/>
  <Override PartName="/ppt/media/image8.png" ContentType="image/png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D357EDB2-6333-4A91-B04B-0843AF1ED73A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3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7C4-0728-4B51-929F-BB2A9AEA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6FA-0393-4CE2-B33A-8916E836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472-3722-43FB-90A0-5509CCD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36F-195D-4A81-84CF-EAEEDFA7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C9E-048D-4037-A4E9-379468FB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230-EB0F-465C-8D57-BC8FBB7C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0FC-D1BF-4231-822F-58677592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2CD-2002-4A04-8952-D5B10908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9FF-48F2-4850-9B14-065CFB5E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603-22BC-41CB-A777-3071087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D21-2088-4758-A4E2-DE040752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DF5-1CB0-4628-91D6-35CD2161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F9E4-4B07-4B43-8357-0B74F376D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UI: 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25092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, W, 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;self.W=W; self.H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W,height=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189720"/>
            <a:ext cx="889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height=1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24000" y="260280"/>
            <a:ext cx="87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graficar f usando n puntos de [a,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152280"/>
            <a:ext cx="86108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Vent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o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metodos que manejan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click(sel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bind(self, x): # x representa al “ev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el programa principal (puede ser en otro arch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Tk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mos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objeto que agrega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z = DibujaVentan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stramos la ventana y esperamos los ev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e son manejados por el objeto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344520" y="436680"/>
          <a:ext cx="8188200" cy="59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436680"/>
                    <a:ext cx="81882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Rectángulo"/>
          <p:cNvSpPr/>
          <p:nvPr/>
        </p:nvSpPr>
        <p:spPr>
          <a:xfrm>
            <a:off x="0" y="2852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100,100,180,16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179280" y="2997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100,100,200,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200052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304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ircun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=200; self.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"circunferencia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ibujar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self.anc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self.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nch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self.alto,self.ancho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21840" y="838080"/>
            <a:ext cx="793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Mo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 = Canvas(ventana,width=3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3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utton-1&gt;", self.st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1-Motion&gt;",self.dra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raw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self.h,self.v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o.x, evento.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6000" y="3049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s d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68280" y="417600"/>
          <a:ext cx="8204400" cy="62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417600"/>
                    <a:ext cx="820440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9:02:33Z</dcterms:created>
  <dc:creator>jalvarez</dc:creator>
  <dc:description/>
  <dc:language>en-US</dc:language>
  <cp:lastModifiedBy>Victor Ramiro</cp:lastModifiedBy>
  <cp:lastPrinted>2006-04-21T23:26:38Z</cp:lastPrinted>
  <dcterms:modified xsi:type="dcterms:W3CDTF">2011-04-20T20:58:18Z</dcterms:modified>
  <cp:revision>133</cp:revision>
  <dc:subject/>
  <dc:title>Sin título de diapositiva</dc:title>
</cp:coreProperties>
</file>