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ct" ContentType="image/x-pict"/>
  <Override PartName="/ppt/media/image7.wmf" ContentType="image/x-wmf"/>
  <Override PartName="/ppt/media/image8.png" ContentType="image/png"/>
  <Override PartName="/ppt/media/image6.wmf" ContentType="image/x-wmf"/>
  <Override PartName="/ppt/media/image11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204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080" y="-360"/>
            <a:ext cx="300348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74280"/>
            <a:ext cx="4632480" cy="34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080" y="8778960"/>
            <a:ext cx="300348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lstStyle>
            <a:lvl1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  <a:defRPr b="0" lang="es-ES_tradn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fld id="{CC974BE2-70C6-46C6-B215-1442D99B3F47}" type="slidenum"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71440" y="67464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Header Placeholder 3"/>
          <p:cNvSpPr/>
          <p:nvPr/>
        </p:nvSpPr>
        <p:spPr>
          <a:xfrm>
            <a:off x="0" y="0"/>
            <a:ext cx="300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b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EA0-1FC0-49C3-8EF7-5CAC649C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484-7C6F-41E8-A728-EB11E0A5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DFA-29F7-4A20-AC06-66FBA4A2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F7F-30EC-4ED1-BC93-FAA6F785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FFF-74C6-4EF6-AB47-2BF899F3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647-0788-47B3-877E-E6C65C2E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A46-87BC-4056-809F-552C6F87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DB1-3553-41BC-8FDE-61EB74F4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8B3-0362-4F1F-A934-76B52094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4BD-7149-4EFD-AAC3-BA76146C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17C-E178-4B3B-9D46-97A38A73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8B2-9690-4FF8-8662-1DB4CF58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AB0A-292B-4940-8F3B-7B5EE47F0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UI: 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Rectángulo"/>
          <p:cNvSpPr/>
          <p:nvPr/>
        </p:nvSpPr>
        <p:spPr>
          <a:xfrm>
            <a:off x="250920" y="2602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, W, H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;self.W=W; self.H =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width=W,height=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50920" y="189720"/>
            <a:ext cx="8893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entana,width=200,height=1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Rectángulo"/>
          <p:cNvSpPr/>
          <p:nvPr/>
        </p:nvSpPr>
        <p:spPr>
          <a:xfrm>
            <a:off x="324000" y="260280"/>
            <a:ext cx="871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graficar f usando n puntos de [a,b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2280" y="152280"/>
            <a:ext cx="86108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ibujaVent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uardo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aca agregamos los componentes a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aca agregamos los metodos que manejan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neja_click(sel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neja_bind(self, x): # x representa al “even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el programa principal (puede ser en otro arch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Tk(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reamos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objeto que agrega los componentes a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z = DibujaVentana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mostramos la ventana y esperamos los even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que son manejados por el objeto interf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344520" y="436680"/>
          <a:ext cx="8188200" cy="59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436680"/>
                    <a:ext cx="818820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Rectángulo"/>
          <p:cNvSpPr/>
          <p:nvPr/>
        </p:nvSpPr>
        <p:spPr>
          <a:xfrm>
            <a:off x="0" y="2852640"/>
            <a:ext cx="990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100,100,180,16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="bla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56" name="2 Rectángulo"/>
          <p:cNvSpPr/>
          <p:nvPr/>
        </p:nvSpPr>
        <p:spPr>
          <a:xfrm>
            <a:off x="179280" y="299736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entana,width=2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100,100,200,2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="bla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200052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2 Rectángulo"/>
          <p:cNvSpPr/>
          <p:nvPr/>
        </p:nvSpPr>
        <p:spPr>
          <a:xfrm>
            <a:off x="0" y="3049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Circunferen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lto=200; self.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self.vent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="circunferencia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dibujar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width=self.anch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self.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nch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lt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(self.alto,self.ancho)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321840" y="838080"/>
            <a:ext cx="7938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ibujaMou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 = Canvas(ventana,width=3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3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bind("&lt;Button-1&gt;", self.st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bind("&lt;B1-Motion&gt;",self.dra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tart(self, event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evento.x; self.v = evento.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raw(self, event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self.h,self.v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vento.x, evento.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evento.x; self.v = evento.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96000" y="3049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os d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368280" y="417600"/>
          <a:ext cx="8204400" cy="62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417600"/>
                    <a:ext cx="820440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9:02:33Z</dcterms:created>
  <dc:creator>jalvarez</dc:creator>
  <dc:description/>
  <dc:language>en-US</dc:language>
  <cp:lastModifiedBy>Victor Ramiro</cp:lastModifiedBy>
  <cp:lastPrinted>2006-04-21T23:26:38Z</cp:lastPrinted>
  <dcterms:modified xsi:type="dcterms:W3CDTF">2011-04-20T20:58:18Z</dcterms:modified>
  <cp:revision>133</cp:revision>
  <dc:subject/>
  <dc:title>Sin título de diapositiva</dc:title>
</cp:coreProperties>
</file>