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DE0-09A7-4F03-A3C5-676CEF31D8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BA1-D6D2-4F52-AF30-7C1412CF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BC2-5872-4F99-9D6D-0823B59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A34-9F9E-43B3-BE3D-33E0AFA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335-5E50-4DD5-84B0-C877EEF6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B32-5A7B-407D-9C7E-34ED6E8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C6A-5908-4880-8B22-AB4E35F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A8F-E3D7-45B5-9C2A-4C266531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EE2-9526-4398-BF2F-DF1A687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7F1-B475-4A54-95D9-70C9D021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672-DBBF-425A-84C6-339D5BB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C5F-9570-4193-8577-266359F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47F-22F8-4B74-9311-222317A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FCF-0E93-4AE4-9EF1-A9C1F2588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5280" y="314280"/>
          <a:ext cx="8470800" cy="68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280"/>
                    <a:ext cx="84708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3:49:18Z</dcterms:created>
  <dc:creator>jalvarez</dc:creator>
  <dc:description/>
  <dc:language>en-US</dc:language>
  <cp:lastModifiedBy>Victor Ramiro</cp:lastModifiedBy>
  <cp:lastPrinted>2006-04-18T16:26:29Z</cp:lastPrinted>
  <dcterms:modified xsi:type="dcterms:W3CDTF">2011-04-15T05:08:03Z</dcterms:modified>
  <cp:revision>208</cp:revision>
  <dc:subject/>
  <dc:title>Sin título de diapositiva</dc:title>
</cp:coreProperties>
</file>