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3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2: Venta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000" y="696960"/>
            <a:ext cx="46501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41782-BED0-471A-9550-1AC6F3CDCD9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2: Venta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50120" cy="3486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205B-72C7-4BDE-A4F9-75D4012C3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E834-F839-4B1B-B90B-00CE4A877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8FA5-9290-4D46-BDC4-6FACC9323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B112-E7EE-48CB-9D0F-4348E81A7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E1E9-A3EA-4DBF-BCC6-86422A44E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51B5-3687-415B-B181-D90193B35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B552-53F0-40DC-BA4F-03CC58F66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3ED6-F043-45D1-9B9B-426E689D3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1AB6-33F2-4241-A20E-FBF2B1D5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C653-A0E1-490E-BE9E-6D98384E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EC5C-B283-4C22-B857-A087648C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7A74-DAA9-4462-AD6E-FD81F601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462D4-3503-417A-9DE8-D1975D9EF5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395280" y="314280"/>
          <a:ext cx="8470800" cy="681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14280"/>
                    <a:ext cx="8470800" cy="681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2"/>
          <p:cNvGraphicFramePr/>
          <p:nvPr/>
        </p:nvGraphicFramePr>
        <p:xfrm>
          <a:off x="523800" y="266760"/>
          <a:ext cx="8220240" cy="619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266760"/>
                    <a:ext cx="8220240" cy="61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2"/>
          <p:cNvGraphicFramePr/>
          <p:nvPr/>
        </p:nvGraphicFramePr>
        <p:xfrm>
          <a:off x="185760" y="425520"/>
          <a:ext cx="8629560" cy="594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760" y="425520"/>
                    <a:ext cx="8629560" cy="59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541440" y="558720"/>
          <a:ext cx="8345520" cy="628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558720"/>
                    <a:ext cx="8345520" cy="628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jercicio. Programa que nunca pierde </a:t>
            </a: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11280" y="37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da vez que se ingrese un N° responder con uno más </a:t>
            </a: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Botón “de nuevo” debe limpiar la frase “Gano yo con el x” </a:t>
            </a: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979640" y="1916280"/>
            <a:ext cx="449568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3 Rectángulo"/>
          <p:cNvSpPr/>
          <p:nvPr/>
        </p:nvSpPr>
        <p:spPr>
          <a:xfrm>
            <a:off x="250920" y="333360"/>
            <a:ext cx="871380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métodos para Entry y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obtener n° y mostrar mens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mostrarMensaje(x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=int(respuesta.get(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ensaje.config(text="gano yo con el "+str(n+1)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limpiar mens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jugarDeNuevo()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ensaje.config(text="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1 Rectángulo"/>
          <p:cNvSpPr/>
          <p:nvPr/>
        </p:nvSpPr>
        <p:spPr>
          <a:xfrm>
            <a:off x="0" y="189000"/>
            <a:ext cx="91440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Jalisco: programa que nunca pie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 = T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arco para agrupar pregunta y respue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rco=Frame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rco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gunta=Label(marco,text="Ingrese un número: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gunta.pack(side=LEF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uesta=Entry(marc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uesta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uesta.bind("&lt;Return&gt;",mostrarMensaj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ensaje y boton en vent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ensaje=Label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ensaje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ton=Button(ventana,text="de nuevo",command=jugarDeNuev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ton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.mainloop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structura de uso comú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lase para interfaz con el usu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mpon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étodos para atender ev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gram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a objeto para la vent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a objeto para la interfaz (de la ventan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oop” de espera de ev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1 Rectángulo"/>
          <p:cNvSpPr/>
          <p:nvPr/>
        </p:nvSpPr>
        <p:spPr>
          <a:xfrm>
            <a:off x="250920" y="189000"/>
            <a:ext cx="8893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Interfaz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constructor: define e inicializa compon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__init__(self,ventana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arco para pregunta y respue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rco=Frame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rco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pregunta=Label(marco,text="Ingrese un número: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pregunta.pack(side=LEF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respuesta = Entry(marc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respuesta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respuesta.bind("&lt;Return&gt;",self.mostrarMensaj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ensaje y botón a vent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mensaje=Label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mensaje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boton=Button(ventana,text="de nuevo",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mmand=self.jugarDeNuev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boton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1 Rectángulo"/>
          <p:cNvSpPr/>
          <p:nvPr/>
        </p:nvSpPr>
        <p:spPr>
          <a:xfrm>
            <a:off x="108000" y="620640"/>
            <a:ext cx="8928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étodos para ev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mostrarMensaje(self,x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=int(self.respuesta.get(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mensaje.config(text="gano yo con el "+str(n+1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jugarDeNuevo(self)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mensaje.config(text="")#limpiar mensa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respuesta.delete(0,END)#limpiar respue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Jalisco: programa que nunca pie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 = T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=Interfaz(ventana)  #o Interfaz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.mainloop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Nota. clase Interfaz podría grabarse en otro arch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399960" y="239760"/>
          <a:ext cx="8274240" cy="716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239760"/>
                    <a:ext cx="8274240" cy="71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318960" y="185760"/>
          <a:ext cx="8150400" cy="777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185760"/>
                    <a:ext cx="8150400" cy="77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1 Rectángulo"/>
          <p:cNvSpPr/>
          <p:nvPr/>
        </p:nvSpPr>
        <p:spPr>
          <a:xfrm>
            <a:off x="179280" y="115920"/>
            <a:ext cx="8785440" cy="83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etodos que se ejecutan en caso de click en boton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saludar(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odificar objeto con texto “hola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ludo.config(text="hola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greet(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ludo.config(text="hello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vent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 = T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boton “español”. Un click ejecuta método saludar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ton1 = Button(ventana,text="español",command=salud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ton1.pack()  #ubica botón en vent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boton “english”. Un click ejecuta greet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ton2 = Button(ventana,text="english",command=gre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ton2.pack()  #ubica botón debajo de anter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componente para mostrar salu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ludo= Label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ludo.pack() #ubica Label de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loop para clicks en botones (hasta cerrar 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.mainloop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Object 2"/>
          <p:cNvGraphicFramePr/>
          <p:nvPr/>
        </p:nvGraphicFramePr>
        <p:xfrm>
          <a:off x="355680" y="338040"/>
          <a:ext cx="8788320" cy="696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5680" y="338040"/>
                    <a:ext cx="8788320" cy="696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1 Rectángulo"/>
          <p:cNvSpPr/>
          <p:nvPr/>
        </p:nvSpPr>
        <p:spPr>
          <a:xfrm>
            <a:off x="324000" y="333360"/>
            <a:ext cx="864072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etodo que se ejecuta en caso de ingresar un nom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saludar(x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=respuesta.get()  #obtener respue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ludo.config(text="hola "+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programa que salu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 = T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gunta = Label(ventana,text="Cuál es tu nombre?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gunta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componente para ingresar nom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uesta = Entry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uesta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uesta.bind("&lt;Return&gt;",salud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componente para mostrar salu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ludo=Label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ludo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.mainloop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239760" y="257040"/>
          <a:ext cx="8523360" cy="641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257040"/>
                    <a:ext cx="8523360" cy="641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338040" y="257040"/>
          <a:ext cx="8415360" cy="567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8040" y="257040"/>
                    <a:ext cx="8415360" cy="567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160200" y="284040"/>
          <a:ext cx="8805960" cy="633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200" y="284040"/>
                    <a:ext cx="8805960" cy="63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5T03:49:18Z</dcterms:created>
  <dc:creator>jalvarez</dc:creator>
  <dc:description/>
  <dc:language>en-US</dc:language>
  <cp:lastModifiedBy>Victor Ramiro</cp:lastModifiedBy>
  <cp:lastPrinted>2006-04-18T16:26:29Z</cp:lastPrinted>
  <dcterms:modified xsi:type="dcterms:W3CDTF">2011-04-15T05:08:03Z</dcterms:modified>
  <cp:revision>208</cp:revision>
  <dc:subject/>
  <dc:title>Sin título de diapositiva</dc:title>
</cp:coreProperties>
</file>