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960"/>
            <a:ext cx="46501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5389-6735-4015-867E-C814107260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2: Vent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DCB-376D-4003-B814-831728C2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F99E-8ED7-49B3-956B-CB1184E4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3D75-62C4-4F97-A9B8-E191E3243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6A8C-DFB6-4B4C-B16E-A3ECD955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E13-A6D7-475A-894A-79653E00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A1B-D014-4269-8D74-46AE1135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3BA-0F74-42D6-83B9-A76C0093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6522-70DF-4CDB-A3B0-14E3892C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641-FEA9-4F71-9259-1FB6E51A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57C-E11F-4521-9A35-20458F98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283-8C17-411E-9726-B520732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F4AF-1C59-403B-A5BC-1145976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2A96-C52C-4FCC-84D6-9D7567562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395280" y="314280"/>
          <a:ext cx="8470800" cy="68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14280"/>
                    <a:ext cx="84708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23800" y="266760"/>
          <a:ext cx="8220240" cy="619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66760"/>
                    <a:ext cx="8220240" cy="61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185760" y="425520"/>
          <a:ext cx="862956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425520"/>
                    <a:ext cx="862956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541440" y="558720"/>
          <a:ext cx="834552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558720"/>
                    <a:ext cx="834552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rcicio. Programa que nunca pierde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7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vez que se ingrese un N° responder con uno más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Botón “de nuevo” debe limpiar la frase “Gano yo con el x” </a:t>
            </a:r>
            <a:r>
              <a:rPr b="0" lang="es-C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79640" y="1916280"/>
            <a:ext cx="449568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Rectángulo"/>
          <p:cNvSpPr/>
          <p:nvPr/>
        </p:nvSpPr>
        <p:spPr>
          <a:xfrm>
            <a:off x="250920" y="333360"/>
            <a:ext cx="871380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ntry y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° y mostr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respuesta.get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gano yo con el "+str(n+1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impiar mens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)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config(text="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1 Rectángulo"/>
          <p:cNvSpPr/>
          <p:nvPr/>
        </p:nvSpPr>
        <p:spPr>
          <a:xfrm>
            <a:off x="0" y="18900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agrupar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=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o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=Button(ventana,text="de nuevo",command=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structura de uso comú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lase para interfaz con el usu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métodos para atender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gram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vent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rea objeto para la interfaz (de la ventan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oop” de esper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893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erfaz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nstructor: define e inicializa compon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ventan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arco para pregunta y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=Frame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rc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=Label(marco,text="Ingrese un número: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regunta.pack(side=LE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 = Entry(mar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bind("&lt;Return&gt;",self.mostrarMensaj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nsaje y botón a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=Button(ventana,text="de nuevo",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=self.jugarDeNuev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boton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1 Rectángulo"/>
          <p:cNvSpPr/>
          <p:nvPr/>
        </p:nvSpPr>
        <p:spPr>
          <a:xfrm>
            <a:off x="108000" y="620640"/>
            <a:ext cx="89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étodos para ev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strarMensaje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=int(self.respuesta.get(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gano yo con el "+str(n+1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ugarDeNuevo(self)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mensaje.config(text="")#limpiar 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respuesta.delete(0,END)#limpia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Jalisco: programa que nunca pi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=Interfaz(ventana)  #o Interfaz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ota. clase Interfaz podría grabarse en otro arch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99960" y="239760"/>
          <a:ext cx="8274240" cy="716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239760"/>
                    <a:ext cx="8274240" cy="71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18960" y="185760"/>
          <a:ext cx="8150400" cy="77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85760"/>
                    <a:ext cx="8150400" cy="77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 Rectángulo"/>
          <p:cNvSpPr/>
          <p:nvPr/>
        </p:nvSpPr>
        <p:spPr>
          <a:xfrm>
            <a:off x="179280" y="115920"/>
            <a:ext cx="8785440" cy="83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s que se ejecutan en caso de click en boto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odificar objeto con texto “hol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reet(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ello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spañol”. Un click ejecuta método saludar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 = Button(ventana,text="español",command=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1.pack()  #ubica botón en vent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boton “english”. Un click ejecuta greet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 = Button(ventana,text="english",command=gre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oton2.pack()  #ubica botón debajo de an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 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 #ubica Label de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loop para clicks en botones (hasta cerrar 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355680" y="338040"/>
          <a:ext cx="8788320" cy="696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38040"/>
                    <a:ext cx="8788320" cy="696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Rectángulo"/>
          <p:cNvSpPr/>
          <p:nvPr/>
        </p:nvSpPr>
        <p:spPr>
          <a:xfrm>
            <a:off x="324000" y="333360"/>
            <a:ext cx="864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Tkinter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metodo que se ejecuta en caso de ingresar un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ludar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=respuesta.get()  #obtener 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config(text="hola "+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programa que salu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 = T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 = Label(ventana,text="Cuál es tu nombre?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gun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ingresar 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 = Entry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uesta.bind("&lt;Return&gt;",salud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componente para mostrar sal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=Label(ventan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ludo.pack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ntana.mainloop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239760" y="257040"/>
          <a:ext cx="8523360" cy="641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9760" y="257040"/>
                    <a:ext cx="8523360" cy="641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338040" y="257040"/>
          <a:ext cx="8415360" cy="5673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57040"/>
                    <a:ext cx="8415360" cy="567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160200" y="284040"/>
          <a:ext cx="8805960" cy="63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284040"/>
                    <a:ext cx="88059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3:49:18Z</dcterms:created>
  <dc:creator>jalvarez</dc:creator>
  <dc:description/>
  <dc:language>en-US</dc:language>
  <cp:lastModifiedBy>Victor Ramiro</cp:lastModifiedBy>
  <cp:lastPrinted>2006-04-18T16:26:29Z</cp:lastPrinted>
  <dcterms:modified xsi:type="dcterms:W3CDTF">2011-04-15T05:08:03Z</dcterms:modified>
  <cp:revision>208</cp:revision>
  <dc:subject/>
  <dc:title>Sin título de diapositiva</dc:title>
</cp:coreProperties>
</file>