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E9E-D90B-4A5F-9974-0A3DAE23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779-21A8-4BB6-8975-1510DA74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B1D-C94E-4F09-8A56-1FBFE034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81C-08EB-45A6-BAC8-C431F38F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C3E-57A0-452E-9FD9-B53D34B2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B2F-EBF4-4E14-95D4-C6331B08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5AF-379D-401A-8F79-72B2F725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929-D4C6-4656-B4B5-29E2CC1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AB9-58B1-4129-9A79-3CF7FA4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401-783A-4D35-9F3B-EFE19BE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616-2C6A-461A-826A-802A256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708-A548-4172-8B95-17B5948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89D8-A446-4BD6-B6A1-B978C3A7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3:07Z</dcterms:modified>
  <cp:revision>100</cp:revision>
  <dc:subject/>
  <dc:title>Sin título de diapositiva</dc:title>
</cp:coreProperties>
</file>