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C3C-A0B9-4309-9907-6DB20815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D9F-6142-42F8-B52E-1499F0D4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BA2D-5224-4358-B06E-1D4A5916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41E-D23C-4ACC-AD26-3146F820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ECCF-BD10-41AD-8DD6-BB359943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3EFC-F1B3-42BD-AF2F-F3D0819B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F5C-BE09-4A9F-95C8-717C2878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3C41-8F7A-4936-B86D-DD2895D2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0C8F-6051-414F-B496-9D621078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AC32-D8F7-4471-8978-7AEF4D8A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3DC-CD23-4C9F-94ED-76CC2A90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E56-1962-4FE3-9D1A-250E5BF1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B0A0-ECFD-492A-AABB-B7AD7C17D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480960"/>
          <a:ext cx="8183520" cy="68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960"/>
                    <a:ext cx="818352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17600" y="338040"/>
          <a:ext cx="851364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1364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17600" y="338040"/>
          <a:ext cx="8424720" cy="62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424720" cy="62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14360" y="334800"/>
          <a:ext cx="844848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334800"/>
                    <a:ext cx="844848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993600" y="657360"/>
          <a:ext cx="7174080" cy="55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657360"/>
                    <a:ext cx="7174080" cy="55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90600" y="407880"/>
          <a:ext cx="856764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07880"/>
                    <a:ext cx="856764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18960" y="328680"/>
          <a:ext cx="8691840" cy="66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328680"/>
                    <a:ext cx="869184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407880"/>
          <a:ext cx="8372520" cy="60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7880"/>
                    <a:ext cx="8372520" cy="60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00" y="331920"/>
          <a:ext cx="784044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1920"/>
                    <a:ext cx="784044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1920" y="415800"/>
          <a:ext cx="83692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692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54200" y="620640"/>
          <a:ext cx="7821360" cy="672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20640"/>
                    <a:ext cx="7821360" cy="67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5640" y="689040"/>
          <a:ext cx="754704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89040"/>
                    <a:ext cx="754704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17600" y="338040"/>
          <a:ext cx="8521560" cy="63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38040"/>
                    <a:ext cx="85215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01640" y="360360"/>
          <a:ext cx="775800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360360"/>
                    <a:ext cx="7758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798840"/>
            <a:ext cx="828036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ayorQue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compara dos objetos (fracciones)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uelve un bool (True o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mayorQue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primer operando: self (componentes: self.a, self.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 de segundo operando: x (componentes: x.a, x.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suma(self,x)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que suma dos f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 de invocacion:  f1.suma(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 nuevo objeto con la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ado: referencia a nuevo objeto de clase Fra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31920" y="415800"/>
          <a:ext cx="8359560" cy="648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15800"/>
                    <a:ext cx="8359560" cy="648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11-01-19T13:23:07Z</dcterms:modified>
  <cp:revision>100</cp:revision>
  <dc:subject/>
  <dc:title>Sin título de diapositiva</dc:title>
</cp:coreProperties>
</file>