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A3D5-09D1-498D-B7CF-0CA5D916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92FE-8D55-46F1-B03C-D5D7D072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6B2-1E6F-450A-B302-797D0986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A07-3BD0-47A0-804E-2DA427E6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87BC-4837-4FB5-B62C-75DBDEA2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5958-D36E-452D-AB64-31251D9F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B55B-36DC-409C-9017-ECFA5F80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A6A7-B5C3-43D7-B189-C09F7566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47E9-4FC4-48C3-B3C4-3C96BE71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9D6E-0D88-4F8E-A75E-63249B58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14F2-D008-40B0-B737-12BA6C17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537-5E11-413E-BB4F-128DAC91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1DD2-343A-46F6-9056-5283806EB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480960"/>
          <a:ext cx="8183520" cy="68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960"/>
                    <a:ext cx="8183520" cy="68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17600" y="338040"/>
          <a:ext cx="851364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51364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17600" y="338040"/>
          <a:ext cx="8424720" cy="62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424720" cy="62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14360" y="334800"/>
          <a:ext cx="8448480" cy="63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334800"/>
                    <a:ext cx="844848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993600" y="657360"/>
          <a:ext cx="7174080" cy="55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657360"/>
                    <a:ext cx="7174080" cy="55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90600" y="407880"/>
          <a:ext cx="856764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07880"/>
                    <a:ext cx="856764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18960" y="328680"/>
          <a:ext cx="8691840" cy="66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328680"/>
                    <a:ext cx="8691840" cy="66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407880"/>
          <a:ext cx="8372520" cy="60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7880"/>
                    <a:ext cx="8372520" cy="60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24000" y="331920"/>
          <a:ext cx="7840440" cy="70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1920"/>
                    <a:ext cx="7840440" cy="70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1920" y="415800"/>
          <a:ext cx="83692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415800"/>
                    <a:ext cx="83692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54200" y="620640"/>
          <a:ext cx="7821360" cy="672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20640"/>
                    <a:ext cx="7821360" cy="67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5640" y="689040"/>
          <a:ext cx="754704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89040"/>
                    <a:ext cx="754704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17600" y="338040"/>
          <a:ext cx="8521560" cy="63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52156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01640" y="360360"/>
          <a:ext cx="775800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360360"/>
                    <a:ext cx="775800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798840"/>
            <a:ext cx="828036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mayorQue(self,x)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que compara dos objetos (fracciones)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uelve un bool (True o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 de invocacion:  f1.mayorQue(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 de primer operando: self (componentes: self.a, self.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 de segundo operando: x (componentes: x.a, x.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suma(self,x)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que suma dos fr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 de invocacion:  f1.suma(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 nuevo objeto con la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ado: referencia a nuevo objeto de clase Fra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31920" y="415800"/>
          <a:ext cx="8359560" cy="648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415800"/>
                    <a:ext cx="8359560" cy="648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11-01-19T13:23:07Z</dcterms:modified>
  <cp:revision>100</cp:revision>
  <dc:subject/>
  <dc:title>Sin título de diapositiva</dc:title>
</cp:coreProperties>
</file>