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073-12E4-4390-B3AA-A5B80F52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FD0-CB08-448E-A0F8-92D3473E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ACB-040B-4147-9B88-9EC9C6DB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6D9-F88D-4189-B899-8EF9297C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E2D-C10E-4BCA-89D5-2433C61B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520-F946-4119-A542-E1DD73A4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581-123E-4482-903C-AEFAA597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EB2-8F1C-4D2A-BC78-E68DA66B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ED7-2212-4A98-8AC4-3A03DDF9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8C0-E044-4F38-8932-8A7812F3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135-EF59-41C6-A223-6EA66306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A51-4C23-4E3D-B9DC-ED06F91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D8E2-08DC-409C-924B-D9242FADE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6440" y="507960"/>
          <a:ext cx="859932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07960"/>
                    <a:ext cx="859932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864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=a.read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linea=="":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c in linea: 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y entrega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1-01-17T17:39:19Z</dcterms:modified>
  <cp:revision>55</cp:revision>
  <dc:subject/>
  <dc:title>Sin título de diapositiva</dc:title>
</cp:coreProperties>
</file>