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D1A-9633-474C-A7DB-C656EE48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443-C2A4-4A58-A9EA-0C51A8A5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6DD-4E39-449D-8125-66F08790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1CD-582C-423A-9949-332ED12B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6DB-68A8-47B2-B912-0FA3685B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E31-0116-4FC5-858A-5CDECB6B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821-CDB1-4827-AC35-ED5E9E0A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198-578E-45DD-8AE1-323BE8B4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C94D-2571-468D-84E4-F8B5D2E3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5706-EC80-44C3-B158-8C54B412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9E3-542B-4499-A84C-9493CA4C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E53-D8FF-476E-8988-C766F6DC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A01A-AF0C-47BD-8573-36EFCCD79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01640" y="480960"/>
          <a:ext cx="77868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80960"/>
                    <a:ext cx="77868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0080" y="527040"/>
          <a:ext cx="7823520" cy="65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27040"/>
                    <a:ext cx="7823520" cy="65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1280" y="461880"/>
          <a:ext cx="871056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61880"/>
                    <a:ext cx="871056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06440" y="507960"/>
          <a:ext cx="8599320" cy="680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507960"/>
                    <a:ext cx="859932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115920"/>
            <a:ext cx="864072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a=a.readlin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linea=="":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c in linea: nc=nc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549360"/>
            <a:ext cx="792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260280"/>
            <a:ext cx="83516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l += 1 #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c += len(linea) #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taxi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operador=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mántica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= variable operador (expre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260280"/>
            <a:ext cx="835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=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#string para concatenar 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 += linea #s=s+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plicable a archivos que caben en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692280"/>
            <a:ext cx="835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s = a.re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“\n”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¿a.read(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e y entrega todos los caracteres del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06440" y="379440"/>
          <a:ext cx="858024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379440"/>
                    <a:ext cx="858024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9840" y="674640"/>
          <a:ext cx="731520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74640"/>
                    <a:ext cx="731520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433440"/>
          <a:ext cx="8062920" cy="59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33440"/>
                    <a:ext cx="806292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3120" y="554040"/>
          <a:ext cx="83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554040"/>
                    <a:ext cx="83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71600" y="396720"/>
          <a:ext cx="8543880" cy="616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543880" cy="61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7720" y="507960"/>
          <a:ext cx="78883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507960"/>
                    <a:ext cx="78883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2520" y="351000"/>
          <a:ext cx="8432640" cy="72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51000"/>
                    <a:ext cx="8432640" cy="72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396720"/>
          <a:ext cx="8432640" cy="675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432640" cy="675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11-01-17T17:39:19Z</dcterms:modified>
  <cp:revision>55</cp:revision>
  <dc:subject/>
  <dc:title>Sin título de diapositiva</dc:title>
</cp:coreProperties>
</file>