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D29-8D84-4C62-8E82-74B5F6C4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C8F-A1EC-494E-9D62-BDCE6B4E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7E5-B1D8-4EB7-A277-8E4F64AC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F61-A1E0-4EEF-830A-A397F85F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933-18F7-4748-8143-0E349541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CDC-CBB7-44E5-B163-7AE5DDFE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12F-96B0-4B50-BD7C-279FCE76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ACC-40E6-45EA-91B5-FFE94E42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4D0-5BF2-46C8-94F9-5F1653F3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CC7-13AE-4FA3-8FAF-9B0FA3C5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76D-D07E-4F18-934C-A69600CD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508-6E29-4630-A42D-9A1BF185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22EB-4208-44F6-B944-B9353DB6B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1880" y="480960"/>
          <a:ext cx="839628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9628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1-14T13:37:06Z</dcterms:modified>
  <cp:revision>60</cp:revision>
  <dc:subject/>
  <dc:title>Sin título de diapositiva</dc:title>
</cp:coreProperties>
</file>