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18B-8680-4179-8CF6-0F7894D4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2E3-0F94-4C0F-8E8F-6197F167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022-70A0-4CB1-BEC3-CAF099BA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83B-32D2-4BDF-B75D-B8D3FA28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930-E3A3-4D3E-9100-EBC9EEAA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451-2A57-4C79-AF0D-F6E89005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B1C0-DFCC-426B-A076-4FD0FCC7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423-6D59-4BE0-A89C-D4415F87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B734-DEA4-405B-91E4-114BD3FF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BA4B-C70A-4F37-B646-159E78E3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D21-DB7D-43AE-8017-965C76A7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05D-F25D-47BD-BF0F-1090E1B5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E52D-F955-474C-A347-DC2D50FBD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1880" y="480960"/>
          <a:ext cx="8396280" cy="67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96280" cy="67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360" y="415800"/>
          <a:ext cx="8229600" cy="68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4360" y="415800"/>
          <a:ext cx="821052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1052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1-01-14T13:37:06Z</dcterms:modified>
  <cp:revision>60</cp:revision>
  <dc:subject/>
  <dc:title>Sin título de diapositiva</dc:title>
</cp:coreProperties>
</file>