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pct" ContentType="image/x-pict"/>
  <Override PartName="/ppt/media/image10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22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8410-FD94-4C49-96E8-C5136479D9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0B20-366F-43ED-9CB4-11C57DB9DF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CA69-CBC1-464B-AF27-BD5EF0DC89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91F5-9DE6-4939-83C4-57E0041483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1C0F-7246-473B-9B06-9D569F7CB3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7A4-2AE0-41A0-ABF2-8D5F90C9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786-AAA6-42D8-876A-F3210656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F40-221D-4603-928B-D5523A8C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31F-C63D-4699-A0DE-06E9F1FC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B5B3-E943-47C6-8BF4-A131390E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6520-9382-4C3E-80CC-49406983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8A8B-7341-4AF6-93AB-1291547E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6E4-FDEE-49B4-9891-8261EFDB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F819-A2FF-4893-8152-4341EE68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4A00-1091-447A-929A-3BE7581B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1287-CE99-4CCC-9054-798143C4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28A-827F-4EA6-973F-1ECAC18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DB72-7A43-41B4-A4F5-8F3A97E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3BFD-B0C1-4CA7-9330-052E11B4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ED2E-8391-4CE3-97A2-50F468AB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62AE-B4C4-4315-A4B2-DB874174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5E97-EB18-40CD-8C5D-09773B51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60514-B129-4A70-ABA2-248FAF2E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4CA66-3C34-46A6-8501-C7833178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C15AE-0033-4A90-BFE4-3DFA15EC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43449-3304-42BB-BB1B-05C71289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D15E5-8DD6-4F71-9B1B-206545B5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5E4-548B-43CD-A004-9868A7BC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F637D-3231-4795-8647-E6025467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53816-76EB-4743-BB91-919B9E30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54D0D-820D-4A75-B9AB-5E71CDC0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AA151-28F4-4676-9A01-40812381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94556-7700-4644-AFCE-5DCABBC9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B6B17-FC8C-43EE-BF1C-66E54B73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4043F-C621-4E16-8EDB-C0674D4C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C1C45-316C-42B9-A64E-19A5F5D3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8B00-FF86-4741-8905-0F0225BB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6616-262B-4219-9A5D-3613EE0C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D74-1D62-4B88-A56F-6BC71C88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9B08-6AB0-4BFD-8651-B24D476A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E3812-4E19-4C41-9EFF-54DCF1EE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9530-BEB9-4F4A-B03A-AB823AFE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04DF-ABC7-4A72-9A05-6BEF5F8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B6C38-5401-48B3-89B4-E2535F1B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2D40-EC07-40B5-99A0-4214780E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1EE3-B3CE-44A9-A86B-CF0DC786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90F8-E14B-4D20-8F9A-B1870D2D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813B-82FD-4B0E-B17E-5B65F966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A6CA5-7247-42CA-8E5E-64A3640D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7C3-C8C8-4DC3-8FBE-2609E28D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42E85-7C53-456A-BAE4-B6EA72A4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5FFB7-8574-4174-B439-A348A8E9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35D8B-0DB4-4689-B762-B22D5B38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53AE7-E0CB-43C1-91C7-DD437BE6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5BAED-4161-4F5E-BC01-80822D4A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0052F-D3F6-4209-BA86-73187496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B43A4-22F1-4BAB-AF5A-392D71B9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FC86A-B29D-415E-913A-98A33D84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22065-0C96-4686-B4BA-0906FD2A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592FC-97B5-4E8D-815A-DD246549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8F8-DCA0-4FCA-B79C-CBCE101F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F2DCF-14D2-4605-B023-AC6DD1C7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0C7F4-6BED-4A55-BA66-1BB00621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89CB7-C71F-4360-902F-5E1C09C2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2A559-A57A-4818-8984-B05CA7BE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15519-E7C6-44AF-8642-E0CE8ED7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5EF63-5776-4C83-9564-89CBC781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5EA02-6B38-4F32-8F85-33F4CD1A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ABF67-0388-41CD-9D30-E1AC4BA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1914C-52B3-43AB-BD42-DD2E845A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AF5EC-54AE-4C08-AF28-645665B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700-61A9-433F-A228-366D01C6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BB0FE-E534-49B0-B7F2-4ECD719B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26443-951B-4503-9A0C-C824D69F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3C5F9-0544-48AA-912B-F1BE0C25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2C0AF-1046-4549-90FE-1F25E814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E6FE2-584E-43EE-8696-05AFECB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D62D5-3382-41C4-9A6B-E32B4FED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3F36C-134F-4AB4-A490-2FB37F18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D7D0D-DF05-45D9-BBB9-C095C1AC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59F92-534C-47FC-A053-88503E05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D0BD94-0EDF-4B75-8E1A-F8B286D5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322-AC7E-46E3-8E24-3645C2DE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3E2B8-CA62-4F38-8271-1F2150C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B4639-E179-40F4-BA89-CED10A5D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B07ED-62FE-470C-A640-EE5B97CE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71911-7FBB-41B8-B720-73FD582A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86B18-2B34-443D-AAC9-EBED4AB9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CB1-8B22-4C6A-8AD9-B3A9302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DEF7-65FC-4D77-B42F-E4B158ED41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EFEC-BD1C-4841-B40E-74FFED23D4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99AD-75F4-4E31-9210-EF6DCA74C1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F601-30FD-4FAC-9787-8CB6892872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6088-3D68-4774-B9BE-43F1DE2212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B0C4-9ECE-4903-8FFE-95BC5FF644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B261-0100-43E5-9ED5-AD69D9C9B2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912960" y="955800"/>
          <a:ext cx="7308720" cy="551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955800"/>
                    <a:ext cx="7308720" cy="55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3"/>
          <p:cNvGraphicFramePr/>
          <p:nvPr/>
        </p:nvGraphicFramePr>
        <p:xfrm>
          <a:off x="797040" y="717480"/>
          <a:ext cx="807228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717480"/>
                    <a:ext cx="807228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766800" y="668160"/>
          <a:ext cx="819000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68160"/>
                    <a:ext cx="819000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Object 2"/>
          <p:cNvGraphicFramePr/>
          <p:nvPr/>
        </p:nvGraphicFramePr>
        <p:xfrm>
          <a:off x="747720" y="806400"/>
          <a:ext cx="7816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806400"/>
                    <a:ext cx="7816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433440" y="461880"/>
          <a:ext cx="856296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56296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5"/>
          <p:cNvGraphicFramePr/>
          <p:nvPr/>
        </p:nvGraphicFramePr>
        <p:xfrm>
          <a:off x="550800" y="511200"/>
          <a:ext cx="8248680" cy="67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2486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1596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3581280" y="90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1, 2, 3, 5, 8, 13, 21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914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e de Fibonacc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8" descr="Screen shot 2011-03-24 at 23.24.15.png"/>
          <p:cNvPicPr/>
          <p:nvPr/>
        </p:nvPicPr>
        <p:blipFill>
          <a:blip r:embed="rId1"/>
          <a:stretch/>
        </p:blipFill>
        <p:spPr>
          <a:xfrm>
            <a:off x="685800" y="1447920"/>
            <a:ext cx="4183200" cy="2601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Screen shot 2011-03-24 at 23.24.01.png"/>
          <p:cNvPicPr/>
          <p:nvPr/>
        </p:nvPicPr>
        <p:blipFill>
          <a:blip r:embed="rId2"/>
          <a:stretch/>
        </p:blipFill>
        <p:spPr>
          <a:xfrm>
            <a:off x="3733920" y="3543480"/>
            <a:ext cx="49291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914400" y="3200400"/>
            <a:ext cx="701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ib(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n =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fib(n-1) + fib(n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85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6923160" cy="3047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6840" y="30492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rres de Hano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dea: usar recursión para resolver un problema de menor tamañ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so base: mover 0 discos es trivial (nada que mover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so recursivo: suponer que ya se mover n-1 discos, solo me queda mover el disco que esta en la base de la torr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1066680" y="116676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oi(n, a='A', b='B', c='C'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eve discos desde ‘a’ a ‘c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ando b como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noi(n-1, a, 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a, '-&gt;'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noi(n-1, b, a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473480" y="563868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uesto: Dibuje el diagrama de recu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5:57:10Z</dcterms:created>
  <dc:creator>jalvarez</dc:creator>
  <dc:description/>
  <dc:language>en-US</dc:language>
  <cp:lastModifiedBy>Victor Ramiro</cp:lastModifiedBy>
  <cp:lastPrinted>2006-03-22T18:37:38Z</cp:lastPrinted>
  <dcterms:modified xsi:type="dcterms:W3CDTF">2011-03-25T13:51:06Z</dcterms:modified>
  <cp:revision>46</cp:revision>
  <dc:subject/>
  <dc:title>Sin título de diapositiva</dc:title>
</cp:coreProperties>
</file>