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ct" ContentType="image/x-pict"/>
  <Override PartName="/ppt/media/image10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394-C554-467F-B8A4-C7F46EDB0B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E4EF-BA16-45C7-B1F7-142453434A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70F6-7B82-4B18-B74B-FFBC0BC6FF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3B8-5D4F-4D58-B0C3-53EB0F78A6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B37-55BC-41D5-8B6A-A3662E12B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00B-5C79-489F-8D47-30543390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12D-EEDA-424A-860A-DA20AE2A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BAD-4595-4797-9731-9420A1B3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0F9-1900-453C-8AF9-373CD9FC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8BC8-3B59-4E40-91F4-D3B213FB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4C5F-8AC1-4882-B189-FAEBFB9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D367-A1D1-45FF-9D03-3F0DC05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5DC-9F0B-446C-9363-6BE762DF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D1A2-8A77-420B-8690-8C1326E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9012-BDE5-4948-9634-913423B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F22-058B-4C16-AA25-07830B94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231-B609-4303-B401-89B2D53E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11A6-2D53-448A-B92C-1FBC2FB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957-996F-455F-B3FD-FD184B5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69A-569B-410A-BA2A-2D3BB7C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DEA-30AA-4B19-BE4F-8078CD07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908-0DB3-4B78-98E3-7C368154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A8A84-4C62-411C-B2D3-A09F7E04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A1547-28B5-4279-8E92-337F5AC5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D5141-4DCB-49BA-8FB8-E73D97C0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A9D8F-DCCA-4EFE-BC95-E3486B49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66AE8-9D07-482E-8476-AD5447F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E27-36FD-41C1-8041-70503FF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AFD6F-67C7-4463-B043-BB7C65D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A8D55-6BFD-4221-B159-411B5E3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3D364-3EC9-4484-9668-BFE974A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DCD2E-D4E1-45C2-9B6C-5D52FFB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664B-09A8-44C7-9DF8-9E36AF0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8F301-3E3D-4C74-BB1F-AAE2054B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FCCBC-B011-4039-84C3-96EB6C28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C7EF-DAAA-42A6-94AB-4FDB5BF5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DB46-E07B-4531-B242-E399EBF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17C2-B7AB-46C8-8C33-47E16A9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503-11E5-4EFD-BD6A-15D09D05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9045-32E7-4834-B557-5D3C104E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662E-393B-4651-A3BF-FE0737F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73AF-FC95-40B9-8F4E-766D0939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7735-489D-42DE-BF38-83BEACB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A14F-CE85-4A83-9751-CFC745E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F3C3-EDFF-47ED-9B9A-F662100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FF1A-342F-4632-9CFF-C677441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7EFA0-D9FB-426C-AE46-85BFE0A1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807D-97BC-4AD9-99D0-50739F23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91174-2D25-4DA5-8A36-C88ABCAC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87B-D4D9-44F5-8349-AF363D34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3210D-97B5-4803-A848-E58BF70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471F9-99CC-4F2D-B9DB-616789D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74BDA-A494-41A2-89DC-A6C1E56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8AB38-AADD-405E-898E-14E7A49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22D20-B4E1-484F-B076-41509793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81608-FEA7-48C1-9F06-50E401F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F559B-692B-4E9F-BAE0-96E8475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4C5E2-2ED7-477E-B68F-8C122DF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6A3C3-7F12-45A7-B81A-91BE76E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97C5C-5D24-4DEC-907C-DBC1612D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C69-5274-4B38-B579-841FF7B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B742E-7E5E-4DD5-942D-D6B772B1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D634E-72AE-4B30-B5BC-62979A8E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2AABF-2D5B-4DEB-A13A-98DECB3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64FB6-219A-4EB8-A817-15C288C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8FAD0-8EA6-4BD3-AAB1-A7B23FFF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0CAD4-0393-4E71-98A4-E1C67840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7F1A6-C83F-4E4E-94A6-F29C7DB8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B9F9F-3CC6-49A2-B7B0-B9CBE66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60173-C81D-477B-83BF-FE1E0C4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71109-1287-4BB9-B3BA-160589C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D09-B1F5-490F-940E-88FD27D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125C6-E3F6-4932-B345-92D22F9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FB6B5-7CF5-48B5-B3F4-467E11CF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8B454-C9D2-4AFF-8573-3BCEF95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1A549-DA77-444A-809B-C151480F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A1E03-8E65-461D-B82D-5464D07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1FD8E-21B4-4200-A2F2-3A74F48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F84CD-3413-4E5F-8A6F-EBE2485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03349-E9D7-4BD8-BFA5-2EA45EDC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C61B5-66E1-4274-9732-6957FE91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E5747-0CED-4981-A521-8503867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52B-5DF8-4ED6-B44A-8C4E47A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1D2E8-5FAC-4656-BE3C-75BB6D6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1DFED-8CDD-4FD0-A179-5DD43E7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FDC9B-BC50-4168-9C48-B7EA1E8E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11501-7618-4908-9301-0BEC4646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E1C06-B5FE-43A0-B08D-8AEAD985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107-87B7-462E-BD8B-1A4E74B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38B-009B-4F79-A92C-176F054C84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F6C3-877E-426B-9705-0E6E355CBA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3F15-FC2C-48CF-A422-AD0BCDDE46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1E21-E2C1-4356-9784-D352B8B2BD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1E25-C2ED-44FA-BB54-4FA2D76B44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0BC-BA55-4137-B860-F3F4E575E6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30C-0A46-4EE4-A500-9EFD744048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912960" y="955800"/>
          <a:ext cx="7308720" cy="551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955800"/>
                    <a:ext cx="730872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1596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3581280" y="90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1, 2, 3, 5, 8, 13, 21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914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 de Fibonacc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8" descr="Screen shot 2011-03-24 at 23.24.15.png"/>
          <p:cNvPicPr/>
          <p:nvPr/>
        </p:nvPicPr>
        <p:blipFill>
          <a:blip r:embed="rId1"/>
          <a:stretch/>
        </p:blipFill>
        <p:spPr>
          <a:xfrm>
            <a:off x="685800" y="1447920"/>
            <a:ext cx="4183200" cy="2601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Screen shot 2011-03-24 at 23.24.01.png"/>
          <p:cNvPicPr/>
          <p:nvPr/>
        </p:nvPicPr>
        <p:blipFill>
          <a:blip r:embed="rId2"/>
          <a:stretch/>
        </p:blipFill>
        <p:spPr>
          <a:xfrm>
            <a:off x="3733920" y="3543480"/>
            <a:ext cx="4929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914400" y="3200400"/>
            <a:ext cx="701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ib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n =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fib(n-1) + fib(n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923160" cy="3047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6840" y="3049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rres de Hano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dea: usar recursión para resolver un problema de menor tama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base: mover 0 discos es trivial (nada que move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recursivo: suponer que ya se mover n-1 discos, solo me queda mover el disco que esta en la base de la tor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066680" y="116676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oi(n, a='A', b='B', c='C'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eve discos desde ‘a’ a ‘c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ando b com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a, 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a, '-&gt;'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b, a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473480" y="56386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o: Dibuje el diagrama de 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57:10Z</dcterms:created>
  <dc:creator>jalvarez</dc:creator>
  <dc:description/>
  <dc:language>en-US</dc:language>
  <cp:lastModifiedBy>Victor Ramiro</cp:lastModifiedBy>
  <cp:lastPrinted>2006-03-22T18:37:38Z</cp:lastPrinted>
  <dcterms:modified xsi:type="dcterms:W3CDTF">2011-03-25T13:51:06Z</dcterms:modified>
  <cp:revision>46</cp:revision>
  <dc:subject/>
  <dc:title>Sin título de diapositiva</dc:title>
</cp:coreProperties>
</file>