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3.pct" ContentType="image/x-pict"/>
  <Override PartName="/ppt/media/image10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22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2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475A-A42B-448E-8261-F3EEF9770E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D23A-912B-4546-AA57-AD14367BB9C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Header Placehold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Footer Placeholder 4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lide Number Placeholder 5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7050-845D-45BC-B0AD-1784F5935E3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296A-9B63-4728-B9B1-D65C8EF4EFD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Header Placehold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5B2D-3A12-4533-9835-470311FC7E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DC22-6753-46D0-BBB7-43178D38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595B-797F-45CE-9283-139FEAED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E302-54B5-4B74-9632-5ED7371F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688C-B854-4448-988F-62DF1136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BDD2-B3AF-4859-B99B-8797E0F2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3923-F361-4AC4-AEAD-D57F806C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C620-5826-4B47-B10F-D4440113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4758-4C22-47E2-ADE8-C45BA130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8255-E059-462C-8C17-43B188D0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78AA-F362-4B9C-A707-362D905D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5D08-ED5F-4088-AAF3-68CF3DD2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B77A-7207-4707-9AC5-C2A8E717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1508-C587-43D6-AE39-F3A82326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2469-9154-4F01-B1DD-697B3944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AEA9-2B48-4EF6-B4FF-46C607F1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FFCA-CDA6-42C1-ACF8-4AF40CE2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1482-E933-4B1B-90A0-F5A68F1E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48693-B265-4C19-921F-B6D35A63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297374-4352-42E8-B9A5-C3792A5F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75B85-FCF5-4D11-99A3-2FD47A55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0D690-0E98-43E4-882A-3D9DF9A8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CD141A-B13E-4DDD-955A-624A50D1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94C1-6D82-417C-B635-F0491B29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7A013-C838-4060-A2F8-6863CC24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505F79-21C5-46F9-A30E-4C2313F0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2DD4B5-27BD-454B-8AED-CCE71F39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6CFECD-0DCA-49C6-A054-2451A442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08A620-672B-448E-B140-2AB56DA6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01E22-AE98-4D6D-A4CD-C0928CFB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1DFAEF-22F1-42C5-A087-B9F0BFE2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7CB90-1FC0-4F0E-8739-C9E29169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E6C1E-4110-4C2E-8810-7B9F6BE4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1667B-4E0A-476F-942B-7C00504E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58D-E4B3-47DC-8026-09F31F04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D91CD-AA45-4C5F-AD80-5999DE0B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2853B-5F3E-447F-AC85-262E8AC2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8A3FF-BB17-4600-9EEF-B726E834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F5205-0145-423E-8FC5-137F834D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F795A-F268-4EDB-8FA5-533DA5BB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FB348-5D96-493A-B351-5E209029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2D110-6EC1-49AC-81A9-085AAB6F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024D9-4458-4FB0-850E-E6DB9844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B4169-9E39-4848-8E6A-08819864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7735BE-13EC-455F-995C-79803ED9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033-0A3F-4EE2-8194-E0323F14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D787A2-E70C-463A-8E7C-202DEEA6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22106D-E90A-4BEF-A055-0CC4FC93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D6586D-8EC0-4AD0-BCFD-3A4004DE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188E86-BAC8-4470-9A7D-E8CC5ABE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469BCA-B66B-4939-87FD-58B8667A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6D7DED-A7FA-4A69-9AB9-2D086DB3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9301F5-D790-4F27-ACAA-31D8EF28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D399B-24F6-4950-8F57-5D08096A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9BDDC1-71ED-4D81-9272-CC576A97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4778FA-2366-4F62-BA24-3C4CEE06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A0DB-6C12-4D33-BD6A-42FF7D0A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6CE0CE-6B4E-41DF-BD11-938EFD34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034631-5C48-44C4-9E95-CE6974D3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BE84E8-CEF3-4B02-A967-A702C3C3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C0B6E6-805A-4068-AA88-7B9B7D26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D52522-E047-4334-8159-2358E1E4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1D7741-B016-4410-ADB9-EA0C1E91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B7AF48-DD2D-4642-A2B3-8D23B9C1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0C6114-52C5-4FE4-92B0-D7396AD4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DD1EF9-3A11-4645-8A72-DCA6200E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0CF3ED-C986-4839-B03B-130C45D1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5C8B-C360-404B-8EF1-B19E05F2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77B960-97FB-4E6F-9D7D-12544340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6F5FE9-852D-440B-BC59-D7B21428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0F7B53-EF59-471C-8468-CBDF06E1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355AD3-2105-42EA-B25F-2FB7E305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3AB83C-C959-4EE8-83AD-BFDFE169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F7B673-C0D4-40D0-B3B6-0DBD2203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4D1E09-0DD1-48F8-886D-9DA49669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FAA206-9E9D-409B-B1CD-0926548E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9D27D1-3413-47D9-B8DF-CC372B8C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52847D-0051-4A4A-92BC-798922D9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646-C950-42B1-A742-C2970817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FC579A-41FF-4234-94B1-DBCAD71C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B107B8-FEF1-4457-8DF4-3598C0AF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A9303C-658E-4084-BC82-89EBFACD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4BB309-197E-4F44-94A6-0F1F228F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3252DD-A06E-4D24-B4C4-617B1A7A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5F90-242A-422E-AB0A-64F4C9FC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6B15-8F9F-4481-974E-B1058F8536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391C-E0F1-4541-B5DB-2F516E50D93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0070-65FA-47DE-8A9C-8DBE6239DB5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43BE-0472-44A6-BAFA-B1224E5AA8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FCB3-5321-45CF-AEDC-85BC41726BF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8009-C4EC-49E1-A587-347D76D64DE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62C2-EC35-4749-8592-089E148F6B8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Object 2"/>
          <p:cNvGraphicFramePr/>
          <p:nvPr/>
        </p:nvGraphicFramePr>
        <p:xfrm>
          <a:off x="1090440" y="600120"/>
          <a:ext cx="7267680" cy="75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600120"/>
                    <a:ext cx="7267680" cy="75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Object 2"/>
          <p:cNvGraphicFramePr/>
          <p:nvPr/>
        </p:nvGraphicFramePr>
        <p:xfrm>
          <a:off x="766800" y="480960"/>
          <a:ext cx="8130960" cy="625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80960"/>
                    <a:ext cx="8130960" cy="62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Object 4"/>
          <p:cNvGraphicFramePr/>
          <p:nvPr/>
        </p:nvGraphicFramePr>
        <p:xfrm>
          <a:off x="766800" y="480960"/>
          <a:ext cx="7983360" cy="642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80960"/>
                    <a:ext cx="7983360" cy="64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Object 2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Object 2"/>
          <p:cNvGraphicFramePr/>
          <p:nvPr/>
        </p:nvGraphicFramePr>
        <p:xfrm>
          <a:off x="912960" y="955800"/>
          <a:ext cx="7308720" cy="551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955800"/>
                    <a:ext cx="7308720" cy="55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1130400" y="923760"/>
          <a:ext cx="7305480" cy="524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3760"/>
                    <a:ext cx="7305480" cy="52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Object 3"/>
          <p:cNvGraphicFramePr/>
          <p:nvPr/>
        </p:nvGraphicFramePr>
        <p:xfrm>
          <a:off x="797040" y="717480"/>
          <a:ext cx="8072280" cy="613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40" y="717480"/>
                    <a:ext cx="8072280" cy="61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Object 2"/>
          <p:cNvGraphicFramePr/>
          <p:nvPr/>
        </p:nvGraphicFramePr>
        <p:xfrm>
          <a:off x="766800" y="668160"/>
          <a:ext cx="8190000" cy="708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68160"/>
                    <a:ext cx="8190000" cy="708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Object 2"/>
          <p:cNvGraphicFramePr/>
          <p:nvPr/>
        </p:nvGraphicFramePr>
        <p:xfrm>
          <a:off x="747720" y="806400"/>
          <a:ext cx="7816680" cy="520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806400"/>
                    <a:ext cx="781668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Object 2"/>
          <p:cNvGraphicFramePr/>
          <p:nvPr/>
        </p:nvGraphicFramePr>
        <p:xfrm>
          <a:off x="433440" y="461880"/>
          <a:ext cx="8562960" cy="618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61880"/>
                    <a:ext cx="8562960" cy="61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Object 2"/>
          <p:cNvGraphicFramePr/>
          <p:nvPr/>
        </p:nvGraphicFramePr>
        <p:xfrm>
          <a:off x="501480" y="649440"/>
          <a:ext cx="836784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649440"/>
                    <a:ext cx="836784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Object 2"/>
          <p:cNvGraphicFramePr/>
          <p:nvPr/>
        </p:nvGraphicFramePr>
        <p:xfrm>
          <a:off x="1268280" y="797040"/>
          <a:ext cx="7000920" cy="53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797040"/>
                    <a:ext cx="700092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Object 4"/>
          <p:cNvGraphicFramePr/>
          <p:nvPr/>
        </p:nvGraphicFramePr>
        <p:xfrm>
          <a:off x="541440" y="480960"/>
          <a:ext cx="8426520" cy="71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480960"/>
                    <a:ext cx="8426520" cy="71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Object 5"/>
          <p:cNvGraphicFramePr/>
          <p:nvPr/>
        </p:nvGraphicFramePr>
        <p:xfrm>
          <a:off x="550800" y="511200"/>
          <a:ext cx="8248680" cy="675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248680" cy="67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Object 4"/>
          <p:cNvGraphicFramePr/>
          <p:nvPr/>
        </p:nvGraphicFramePr>
        <p:xfrm>
          <a:off x="550800" y="511200"/>
          <a:ext cx="8072640" cy="659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07264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75f6d"/>
                </a:solidFill>
                <a:latin typeface="Times New Roman"/>
              </a:rPr>
              <a:t>Problemas propue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685800" y="1989000"/>
            <a:ext cx="8207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suma(x,y)#x + (x+1) + … +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permutaciones(x,y) #x!/(x-y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combinaciones(x,y) #x!/(y!(x-y)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fibonacci(i)#entrega i-ésimo nº de 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ros: 0, 1, 1, 2, 3, 5, 8, 13, 21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inverso(x)#inverso(123) entrega 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Object 2"/>
          <p:cNvGraphicFramePr/>
          <p:nvPr/>
        </p:nvGraphicFramePr>
        <p:xfrm>
          <a:off x="1042920" y="776160"/>
          <a:ext cx="7423200" cy="586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776160"/>
                    <a:ext cx="742320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15968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3581280" y="909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, 1, 2, 3, 5, 8, 13, 21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9140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rie de Fibonacc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8" descr="Screen shot 2011-03-24 at 23.24.15.png"/>
          <p:cNvPicPr/>
          <p:nvPr/>
        </p:nvPicPr>
        <p:blipFill>
          <a:blip r:embed="rId1"/>
          <a:stretch/>
        </p:blipFill>
        <p:spPr>
          <a:xfrm>
            <a:off x="685800" y="1447920"/>
            <a:ext cx="4183200" cy="2601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9" descr="Screen shot 2011-03-24 at 23.24.01.png"/>
          <p:cNvPicPr/>
          <p:nvPr/>
        </p:nvPicPr>
        <p:blipFill>
          <a:blip r:embed="rId2"/>
          <a:stretch/>
        </p:blipFill>
        <p:spPr>
          <a:xfrm>
            <a:off x="3733920" y="3543480"/>
            <a:ext cx="49291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"/>
          <p:cNvSpPr/>
          <p:nvPr/>
        </p:nvSpPr>
        <p:spPr>
          <a:xfrm>
            <a:off x="914400" y="3200400"/>
            <a:ext cx="7010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ib(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n == 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if n ==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fib(n-1) + fib(n-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885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400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6923160" cy="30477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6840" y="30492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rres de Hano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dea: usar recursión para resolver un problema de menor tamañ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aso base: mover 0 discos es trivial (nada que mover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aso recursivo: suponer que ya se mover n-1 discos, solo me queda mover el disco que esta en la base de la torr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"/>
          <p:cNvSpPr/>
          <p:nvPr/>
        </p:nvSpPr>
        <p:spPr>
          <a:xfrm>
            <a:off x="1066680" y="1166760"/>
            <a:ext cx="7086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hanoi(n, a='A', b='B', c='C'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"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eve discos desde ‘a’ a ‘c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sando b como 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"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n == 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noi(n-1, a, c,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a, '-&gt;'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noi(n-1, b, a,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Box 2"/>
          <p:cNvSpPr/>
          <p:nvPr/>
        </p:nvSpPr>
        <p:spPr>
          <a:xfrm>
            <a:off x="1473480" y="5638680"/>
            <a:ext cx="54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uesto: Dibuje el diagrama de recu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5:57:10Z</dcterms:created>
  <dc:creator>jalvarez</dc:creator>
  <dc:description/>
  <dc:language>en-US</dc:language>
  <cp:lastModifiedBy>Victor Ramiro</cp:lastModifiedBy>
  <cp:lastPrinted>2006-03-22T18:37:38Z</cp:lastPrinted>
  <dcterms:modified xsi:type="dcterms:W3CDTF">2011-03-25T13:51:06Z</dcterms:modified>
  <cp:revision>46</cp:revision>
  <dc:subject/>
  <dc:title>Sin título de diapositiva</dc:title>
</cp:coreProperties>
</file>