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AE0-59FB-46F1-BBB3-710493C2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315-6C5E-47A8-8964-C7D9838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C35-7DE5-4AD7-9DBF-A39F15FA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550-956D-40CF-AC94-CE68A950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C85-1AC8-49CF-AAA1-DDCA416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8D2-2F49-4BD8-BD14-AD9EED8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3C5-3D61-468B-BD19-E84E32C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BB4-34A5-439C-A114-023BE944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4DA-6FC2-4433-9A13-6DE291B9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E87-04AD-43FD-A9C9-C8DDA34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72E-7DE1-41E3-9AF2-7DC7DFB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22B-2D15-4A73-A31A-DE92F42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F8A0-7EB4-4BBD-B0CE-CB9D11F05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4:20Z</dcterms:modified>
  <cp:revision>65</cp:revision>
  <dc:subject/>
  <dc:title>Sin título de diapositiva</dc:title>
</cp:coreProperties>
</file>