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3E6-092A-4CAB-8F18-93F0614D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31B-4F8D-425D-B679-AF72073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5EF-BE30-4AAD-B044-35A6BFC8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84C-29F5-4F12-A1E0-91E3AB88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44C-98AA-48CB-96CE-F7E0CBB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740-E1D6-4F8D-9016-A6197F30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66E-64D8-4D13-B7EC-1A7037F0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249-8F2C-4C8D-84FE-025E2D8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7E5-A109-4EC8-8379-73E8D7E5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BC1-E27E-4A8C-A41D-F955DC6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A59-0AF0-4D82-B344-C808F476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FAA-B255-4613-8F6E-A848F2CB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224A-409B-413E-9857-5D74CDDC9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4:20Z</dcterms:modified>
  <cp:revision>65</cp:revision>
  <dc:subject/>
  <dc:title>Sin título de diapositiva</dc:title>
</cp:coreProperties>
</file>