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BC2-0FD8-4DD5-B9BB-18F007E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CB0-C8A0-45F9-A36B-C424F6D7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0DF-40AF-4B5D-8E60-4D6353A9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8CF-542C-4230-BDD4-C74D0B7C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6C9-175D-4ADC-8D7F-4FAD2074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E55-1B37-4E79-B42C-889E8DF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C87-0BD5-4161-963F-6D35788A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26E-DC88-4582-966D-B951521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C09-D29D-4B51-9C65-0EB707DA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BA5-FEF5-4708-AAC2-807AC5B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947-7857-48AE-B65D-3041E387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A18-2C24-4765-A625-DF44CB2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FDCC-1D71-456D-8BAD-1BACC6B0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4:20Z</dcterms:modified>
  <cp:revision>65</cp:revision>
  <dc:subject/>
  <dc:title>Sin título de diapositiva</dc:title>
</cp:coreProperties>
</file>