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336-D8D4-41AC-B6DB-5C360711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69E-DC78-47FF-A582-6908C8D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0F5-6ACB-49BA-B89F-E4DDF7DE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AAE-2D7E-4E1B-AC39-E96C8A55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740-5269-40AF-BFE6-ACB55B05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0D4-97A8-40F9-9EBF-4798A6F3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D61-87C5-482E-BB07-172CD68C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B1B-5473-4348-88AA-672C2260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37A-5985-4CAF-89C1-73454722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717-00B2-4C9B-B39F-8F13300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339-758F-4EAF-9831-81EF5722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7CC-C2BF-456E-94E5-41AFBB7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BD3-EB2C-4D00-9287-577AE896C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4:20Z</dcterms:modified>
  <cp:revision>65</cp:revision>
  <dc:subject/>
  <dc:title>Sin título de diapositiva</dc:title>
</cp:coreProperties>
</file>