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87C7-99ED-4361-8500-0F0C188A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664-CBC3-477D-B971-C787391E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8F9A-4233-4236-8BC3-8AD845F3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D0A-C3DE-411D-A6CC-32193800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53B-EE5D-491F-B62A-2A94C3EF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953-3A89-4749-905A-275ED51F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AE29-1115-459D-B600-B05C06DD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449B-CF7B-4E1A-97F8-12937B08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9CBD-7462-4285-828C-122D9B29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359D-C787-4877-A46C-C2744F4F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8503-A952-468B-87CE-2CDE0904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EBB-E0C9-42FD-A008-CB7D057F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2651-2F30-48EC-9BC6-3380B474A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63400" y="396720"/>
          <a:ext cx="795204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396720"/>
                    <a:ext cx="795204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6800" y="701640"/>
          <a:ext cx="84250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701640"/>
                    <a:ext cx="84250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01640" y="461880"/>
          <a:ext cx="7897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61880"/>
                    <a:ext cx="7897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11360" y="433440"/>
          <a:ext cx="7804080" cy="69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33440"/>
                    <a:ext cx="780408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1-01-09T13:34:24Z</dcterms:modified>
  <cp:revision>59</cp:revision>
  <dc:subject/>
  <dc:title>Sin título de diapositiva</dc:title>
</cp:coreProperties>
</file>