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1318-08B0-413E-8CA6-EC867171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54AA-4146-4554-8376-0C237965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46E0-1CD1-4C98-AEC8-8EEEDDB4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0251-3639-47AC-96AE-9D8A2498A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F6CC-78D0-49A4-A9C6-4C1CEA0C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806C-5CD0-4963-B85F-8732F02F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29FF-356D-4C36-9D85-7CEE8D15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6D38-A6BB-4C42-A3F8-48FF69C1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4A7B-060D-4AA4-B243-91B7AE10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00A2-307D-4075-9019-BC117DE1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4946-7A6B-48D3-9A2C-48F4DAEE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01DD-0A4A-4B20-AC7B-0F0A78B5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CE44-0636-499D-91FC-469EEE830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7000"/>
            <a:ext cx="8785440" cy="62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: ordenar 3 números generado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andom.randint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a=azar(1,100);b=azar(1,100);c=azar(1,100)#;separa in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 "Numeros=",min(a,b,c),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a,b,c),max(a,b,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¿def medio(x,y,z):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1: restar menor y mayor de la suma de lo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+y+z-max(x,y,z)-min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2: menor de los gana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x,y),max(x,z),max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: mayor de los perde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ax(min(x,y),min(x,z),min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Solución 4: ordenar los 2 primeros y comparar 3º con menor y may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nor=min(x,y);mayor=max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menor,z),may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33440" y="277920"/>
          <a:ext cx="7786800" cy="634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277920"/>
                    <a:ext cx="7786800" cy="63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6300720" y="1341360"/>
            <a:ext cx="0" cy="22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708000" y="350028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25520" y="341280"/>
          <a:ext cx="8136000" cy="689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1280"/>
                    <a:ext cx="8136000" cy="689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63400" y="396720"/>
          <a:ext cx="7952040" cy="621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396720"/>
                    <a:ext cx="7952040" cy="621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96800" y="701640"/>
          <a:ext cx="8425080" cy="52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701640"/>
                    <a:ext cx="842508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01640" y="461880"/>
          <a:ext cx="789768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61880"/>
                    <a:ext cx="78976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00120" y="471600"/>
          <a:ext cx="8219880" cy="65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471600"/>
                    <a:ext cx="8219880" cy="65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11360" y="433440"/>
          <a:ext cx="7804080" cy="696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433440"/>
                    <a:ext cx="7804080" cy="69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05040" y="701640"/>
          <a:ext cx="7518240" cy="698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701640"/>
                    <a:ext cx="7518240" cy="69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09480" y="476280"/>
          <a:ext cx="8350200" cy="78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6280"/>
                    <a:ext cx="8350200" cy="78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212760" y="471600"/>
          <a:ext cx="879300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60" y="471600"/>
                    <a:ext cx="879300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839880" y="498600"/>
          <a:ext cx="7878600" cy="622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498600"/>
                    <a:ext cx="7878600" cy="62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328680"/>
            <a:ext cx="842472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 &gt; 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31960" y="498600"/>
          <a:ext cx="7692840" cy="611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498600"/>
                    <a:ext cx="769284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4360" y="720720"/>
          <a:ext cx="7961040" cy="673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720720"/>
                    <a:ext cx="7961040" cy="67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14400" y="517680"/>
          <a:ext cx="7194600" cy="561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194600" cy="56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69840" y="619200"/>
          <a:ext cx="791532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19200"/>
                    <a:ext cx="791532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20720" y="527040"/>
          <a:ext cx="815508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527040"/>
                    <a:ext cx="815508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6-03-17T17:08:51Z</cp:lastPrinted>
  <dcterms:modified xsi:type="dcterms:W3CDTF">2011-01-09T13:34:24Z</dcterms:modified>
  <cp:revision>59</cp:revision>
  <dc:subject/>
  <dc:title>Sin título de diapositiva</dc:title>
</cp:coreProperties>
</file>