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B1F5-C655-4121-8074-942187BE99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501-656A-44D3-9522-95823851C3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A8EF-7F90-40B3-9041-19A9F34FC2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42B-5934-45BF-95BA-B8918B1A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9B2-6063-4664-925E-404731A7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2FC-3544-4304-BE09-BAF93678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8B-CB4E-490A-9168-F1A1301E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1827-585A-4BA1-AD93-0633CDD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C600-23F0-4FF4-A893-4C41D08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311-4175-4261-AE20-B1629EE4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894F-D731-407F-A673-A557B4F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3E52-B486-4DEF-AB67-D0E44CC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F2A6-543C-4A96-A371-60BC098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BD6E-E9DF-4936-90BF-8321B06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948-931A-4FFF-8F18-294F5AD3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011B-78DB-44D5-BE5A-D3D690E0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9246-2A46-404C-AD23-083C0D6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193F-BE8E-4ACA-963B-5516F6F9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025-1C06-4CCC-ABE6-F6A516B6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8A6A-0939-4176-8502-DE829DD4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E06D0-7C29-4268-AC99-EF8E5100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0AB0B7-2927-4E89-9611-6AB1674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9EF86-AFD7-412F-9E64-DD84C68C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D60F0-FAA1-4231-8700-ED3D2EC1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0B7AA-53FC-432A-98A7-EA2DBC59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B5D-E6D1-4D1C-B759-5771103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237FC-80F0-4F8F-A12E-0B472CF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6C26A-28D9-4D54-9A4C-DDBFAAE3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40AA7-D526-46EC-8F0B-E826922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8CEED-D461-41F2-AD6A-E22C355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C9DB0-E82B-4BFE-905A-406A3794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0DEBF1-755F-4083-A8EE-857EE77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07544-4B7D-401B-B5AD-1F921D89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C4840-4CD7-4B57-9494-A9F445F2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4C16-10DA-497F-B599-625080B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28282-F84D-4FFD-814D-93777E1A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49A-B65F-488A-AE33-26E2AB89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7422-E466-4E57-862A-F15F9E63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C7804-CB19-4877-AB5B-95CE324F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97C0-D0F5-4392-BFBF-1255CB40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6A27-8955-4ADF-A724-4DB3B8C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108F-9387-49DC-80AE-8859BF4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76F95-0BC9-4105-99C1-2E55EACD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81172-019B-4868-94D7-2000FB8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ADDBB-EA08-4367-B8A3-B72AA4D4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A1BC-EFA5-4E05-96CA-9E33589C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FA278-C757-4974-80AB-0F99964E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782-8911-42E6-97BA-C9C6A7F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26FB5-45E6-413E-8530-C285F0D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E4D2A-E66A-4ABE-B90D-3AEC284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E29FC-5B8E-4E10-9712-69CD69D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7B37F-DB6F-4624-84A3-EAA0931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69F1E-9131-4995-85BC-052880CF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CCD69-A8AC-4B50-9A83-74EDFEF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EE811-5F22-4B0E-B0DD-ACF29559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440C4-FD2F-42F6-9970-8DC657F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A9EE2-AFB2-4BE1-B3CB-50EDEB0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C1CBAD-BC92-4F9E-8FF4-C45CF8F2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030-54CA-4140-8DEC-E86ABAB7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BB206-28CE-4187-8847-D78ED549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D55B2-B752-47FF-BB11-44544DF0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BE29A-76E5-4F27-A9A6-335EBB81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1DE5B-422B-4F24-B79C-B9D52A4D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636B66-587F-4F44-85E6-B5A5420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DCC0A-5C61-4917-9E8A-7EB6F63F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81DAB-72C8-4D72-9E68-531CC9A7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A1F04-44BB-4707-91A2-B638877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529B1-8BBC-4927-94C2-9283A988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88954-A44F-462F-AE56-B5202A07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A23-D8A1-4102-999C-F3A9042A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24BC7F-B835-4AD6-979E-BE0E6092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65526-4BDF-48E4-8647-BAA75224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674C5-69E9-4DAC-8C30-D26E2B7C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D5BF4E-23AB-48D3-98E4-53522596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C4FD6-0D44-4C28-890B-4D8F810E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42BDFA-FE19-4B3F-97B6-9FC401F9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B1D81A-A311-4F56-AB35-939BDEEF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B2AD8-8F90-4939-BF50-B8C3BA6D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ADB68-D036-4720-B651-60C452C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632BF-B52E-43C0-8A54-8FF49B2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CD2-B206-47EE-A7EC-FB4C68BE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E7FF7-E487-4352-83B5-FC79996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A4ABD-CE49-4D9C-86D5-857D09B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3904D-4C0C-4066-8306-1A80DEA3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1C72B-0CE8-4DA9-881C-A22B9750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AE2CD-A952-4F12-8AD1-DB6AE1AE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00E-549B-4EAD-8976-4A39271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837E-8044-421E-A583-9A78AB22EA1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7CAB-6913-48B4-BE63-D0214BD4AD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D913-0DE2-4323-A76A-8898E70671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8611-2AB0-44E6-BD7B-874A953CCA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808D-2AB1-4CD5-AC87-039EBCA5534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DED4-0E44-4999-8782-82DE3DE7199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32A-1A63-4693-AACF-12829CE3D6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EJERCICIO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-56016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1523880" y="3886200"/>
            <a:ext cx="5372280" cy="2400480"/>
            <a:chOff x="1523880" y="3886200"/>
            <a:chExt cx="5372280" cy="2400480"/>
          </a:xfrm>
        </p:grpSpPr>
        <p:sp>
          <p:nvSpPr>
            <p:cNvPr id="385" name="AutoShape 8"/>
            <p:cNvSpPr/>
            <p:nvPr/>
          </p:nvSpPr>
          <p:spPr>
            <a:xfrm>
              <a:off x="1523880" y="38862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3238560" y="41148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3580920" y="43434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5"/>
            <p:cNvSpPr/>
            <p:nvPr/>
          </p:nvSpPr>
          <p:spPr>
            <a:xfrm>
              <a:off x="3580920" y="43434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0:05:11Z</dcterms:created>
  <dc:creator>jalvarez</dc:creator>
  <dc:description/>
  <dc:language>en-US</dc:language>
  <cp:lastModifiedBy>Victor Ramiro</cp:lastModifiedBy>
  <cp:lastPrinted>2006-03-14T15:11:26Z</cp:lastPrinted>
  <dcterms:modified xsi:type="dcterms:W3CDTF">2011-03-11T02:27:22Z</dcterms:modified>
  <cp:revision>77</cp:revision>
  <dc:subject/>
  <dc:title>Sin título de diapositiva</dc:title>
</cp:coreProperties>
</file>