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4800"/>
            <a:ext cx="4649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6A9-DFC7-4DC6-B103-94A8AB945C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86DA-33D0-45ED-9CB5-19928AB77B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681-6425-4896-963F-226AA7254A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A37-F896-4FF3-AD5E-34ED1542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97C-10F0-464B-8D40-F938D69D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B70-585C-44C9-BBEB-B18837EE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36F-E8F1-4374-9075-13538775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CC75-407B-417E-B437-46D9852C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576F-8E85-498E-A7E1-8F9C2EA3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8C0-3667-4A0A-A580-879A0027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C6B1-0B39-4DB2-8007-6A7A20D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99A-FF6C-4CD9-9D90-3484E92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B7F1-C22A-463D-BB43-E357BA3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540F-4441-49B0-B630-58471EE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BDE-3687-4934-BA10-E757578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ABF-46BE-43E9-87CD-8D342D2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60D-FBA3-4A93-BAB7-D5071EA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A7C-2BFF-4F91-AC58-DD1F03C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891F-F649-429A-8F6A-5796B6DF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92A1-0502-4720-81D9-D6A4F5BA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58DC2-53C9-44F4-828A-956C638B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E4B89-40D9-4243-BBB1-5F3ED67D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8B6E6-C6DC-40FD-9EFA-29993AB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9D369-FD0B-4D76-A741-F345D714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C5DD4-F0A1-4430-8666-18F574A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FED-133B-430C-9B27-362A2391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890AC-4F74-49C7-A20D-BF03AFA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7E9D0-1C1A-4E11-92F0-C01820B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D08D2-7567-4E80-8D5E-514E1C4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9F37D-52A1-4CB2-8949-280D040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01422-E9E4-4125-AE4C-3B71022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FD9EB-84C2-4D55-9C1C-C00D0FF9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B19CB-D094-41ED-B26B-F15A743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0D32-0599-4C08-9691-C1A3725D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8E9A-47E0-40FB-BC1E-9E1A548F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6163-0EEF-44A4-A6E7-B358833B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EC9-0594-4308-B287-1A96DDA8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34B8-3B5C-4B2C-BF7C-E8F26A1D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A221-8EB4-45EC-92C0-28FEE515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C5296-9CCF-4068-852E-42F720A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2DCAD-286F-4C69-B6E7-3C8168B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BF69-B612-4404-BD58-13A2936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1AF5-2A40-4F05-AE89-4CD5D75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581A-1EDC-43F3-9169-321A3E9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549D-B6D2-4E48-8B29-8B5907D1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F59C-1ED8-4DEE-AA46-2FE478B9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4FFA7-CDA2-4020-A849-1E6B98AE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B84-5372-40B2-9826-811AE2D6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B39CF-B318-432E-A259-2A5B79D0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FEFE0-F0F3-474E-BC5A-9F30E36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F8E1B-A55D-4CFF-98E2-13D0024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C8BDF-000E-4DB9-B586-73C95E83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6E2CF-35DB-49C9-957F-30D8002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9A047-443C-4490-88E5-FD155E1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7E18E-01BD-4242-90F9-D8459E2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69FF6-AA3B-434E-BDF8-404F586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D60DF-7392-4876-9512-929AC6C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D1CD-D683-4FA1-A2F5-CC58C869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910-079C-48E3-810A-936CD527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B74E3-677F-4523-B6BE-A05A9684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4C332-B9A8-451C-8A1C-AB9FA689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D5F64-65F3-4760-AC86-4DAAE41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AE49A-A8CA-42B0-B6D4-F08E614F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1A938-98EC-4A70-8B83-E24E6DE1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5628F-1AE9-49C8-9E5C-2D83110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042CF-FF8E-4603-8D5B-5A0E4401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F7A04-713E-4AB4-B526-2DB56B93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8B1FA-47B3-4608-AC09-203516A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19AEB-34EB-48A3-84D1-7CF7C213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5A2-BD3B-4E26-8302-4ADD493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74169-FC34-4BEB-A04B-8F29D343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E6F26-822F-48AD-9D62-D426F717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78902-C0D4-4EC9-9823-8E9BA834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FFD10-EB98-4898-AA25-7BAA17E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F05D6-20B4-4C2D-9C29-963FBA70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748BA-AABE-47C3-9A67-02CCDFE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A75C1-D638-45B0-B665-2FE53032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CD9FC-C103-40EC-B956-605181D5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27EB6-88C7-4DAE-8B46-B4AD9AD8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C9665-0F04-4AC6-BB57-CEDE9058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577-0050-43EB-ABE8-9CA646C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7BADB-04A8-4C95-A9FD-977FB1F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5B7B4-B9B0-4AA2-AEAA-AA223E1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ECC5C-89AF-4EA5-A9C6-28DF17A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AC02C-C106-4B18-AAB4-60D1FCC1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859C6-1F7F-475A-96AA-DFD5A377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EBE-10E1-4475-898A-7002E7F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4594-2ECF-49BC-8190-2901238E88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D516-09CC-4D47-9D5F-90CD1E0092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BE65-CDE4-4439-BA31-FEDC2E1596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232-A194-407C-839E-17DB6E1560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021-458E-4DF0-9BEB-B67BD9F6A2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0BA-5AAD-4D85-AA3E-98216ECB67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2B8-880E-4BC5-8552-41588680D1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EJERCICIO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-56016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1523880" y="3886200"/>
            <a:ext cx="5372280" cy="2400480"/>
            <a:chOff x="1523880" y="3886200"/>
            <a:chExt cx="5372280" cy="2400480"/>
          </a:xfrm>
        </p:grpSpPr>
        <p:sp>
          <p:nvSpPr>
            <p:cNvPr id="385" name="AutoShape 8"/>
            <p:cNvSpPr/>
            <p:nvPr/>
          </p:nvSpPr>
          <p:spPr>
            <a:xfrm>
              <a:off x="1523880" y="38862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3238560" y="41148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6"/>
            <p:cNvSpPr/>
            <p:nvPr/>
          </p:nvSpPr>
          <p:spPr>
            <a:xfrm>
              <a:off x="3580920" y="43434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5"/>
            <p:cNvSpPr/>
            <p:nvPr/>
          </p:nvSpPr>
          <p:spPr>
            <a:xfrm>
              <a:off x="3580920" y="43434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0:05:11Z</dcterms:created>
  <dc:creator>jalvarez</dc:creator>
  <dc:description/>
  <dc:language>en-US</dc:language>
  <cp:lastModifiedBy>Victor Ramiro</cp:lastModifiedBy>
  <cp:lastPrinted>2006-03-14T15:11:26Z</cp:lastPrinted>
  <dcterms:modified xsi:type="dcterms:W3CDTF">2011-03-11T02:27:22Z</dcterms:modified>
  <cp:revision>77</cp:revision>
  <dc:subject/>
  <dc:title>Sin título de diapositiva</dc:title>
</cp:coreProperties>
</file>