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4800"/>
            <a:ext cx="4649760" cy="348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CB8F-39B5-4980-A67A-85130CD92A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FCD-E9CB-4221-AC64-363B23B2591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0A5-5D18-4340-9963-1029A801D1F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1280" y="4414320"/>
            <a:ext cx="5607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86B-9D82-436B-BDAA-28CFBA7A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049-9A3D-45A5-839A-56CB690F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0F5-B5EE-4FCE-B87E-49C86953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E91-E4ED-459B-AA41-BB136497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D2E9-8799-4C84-A7CC-AAEC1696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0653-A05E-49D9-BE93-59C594D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035E-8BB9-4C4A-9563-978BFA75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F178-D3CD-4BC6-BBA1-085A879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DC9B-7A86-4F8D-8AE1-EC5BF80B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7904-D0F9-4986-B951-A00F0FAC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623C-B428-4405-ADA3-2278134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306-53FC-4367-BEFA-89082F9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84E-69BA-42C7-BBF0-0EB6004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7A9-0BA4-4E4D-A4C8-9E23CE04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3067-1B57-4837-A758-A4F1083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25B1-729D-4BC4-88D7-8F9C9F2A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1C19-D59F-4318-BCAE-1E391936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C7117-9034-4D6B-B973-324690DD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D73015-1870-40B7-A75B-FF7F8A4B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131AE-C2F4-4E94-9FDF-1F011D2A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764E-A2B8-4C20-B71F-BB3473BA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3ECEF-D9AF-4AB1-AE0F-CC3822D5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B09-3E51-4BEC-967C-46CCA08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298A3-3875-49BB-AAEC-8DCA841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10520-0F6D-4709-8E3C-225F351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BD64E-C867-4643-A11F-EE48322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6A7EE-5C56-4172-AD6F-C1B8C9CD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18BE1-53BB-4DFC-9352-584C1F10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38696-47E3-4B11-84C6-EFD8B067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EB81FC-0563-415C-B0E3-8F768F86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66DD6-37E2-47A5-B9E6-D625CA16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7413-7B68-4975-80CA-B202BFC9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49D0-8DCE-4421-A787-21F1479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6B8-5EBE-4562-960A-AAA27417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3B3E-FAB7-4971-972C-0ECD1FE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FEC0-4C75-4404-A522-195FF1E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E63DB-AA7D-412F-8F1F-7737900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81FAD-0D3F-493B-A036-752EF66D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7A2D-29BE-4D62-B18F-D92DBFCC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BCF3D-0DA9-43AA-9333-D42C2608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4B7E8-729B-4604-9147-ACD87D6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E0B87-39C6-43DD-8F0E-CB6C4CC4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4B4A4-34E2-4D75-B2BF-5F97170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DC94B-1B88-4505-B449-4A0B683B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4B9-A689-4579-B161-14F28702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E7760C-862C-4A91-BC0C-8585840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FED52-2297-48D5-988A-141F6DB6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0AE86-A292-4E8D-AC10-E2D1B16D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B41BCA-40B6-4F6D-8C35-9F1EF702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C06E7-3D4D-44CB-8493-A7A03E42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E360CB-62CC-4D69-BF38-11519BAA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CB46A4-5395-48FB-8E0A-CD15EDF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E369F-1D35-483B-9E0A-A46059A5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D19F9-D466-4298-85F9-DEEA5CA1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911EBB-DEF0-4CE5-B6BB-B518EEED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81F9-8E44-46FD-8AB8-8463C959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2041C-8F24-4B8D-8215-9F437469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E57B2-4BA8-465C-B00D-4DD70BE9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563F95-7AC5-4C27-8BA5-69B53231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22526-BEB3-48E8-A087-763DDFA2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06F3A6-227F-454B-A2E3-3FC36300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8B5F6-02E3-4129-A1E4-0067C798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AF515-9C8D-48B0-8F48-8B245B5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014A01-EAED-4EEA-BDDF-14FCDE5B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FB705F-E8E5-4354-A17D-A70C5F0A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A0F2F0-8BEE-4DA9-B098-406E2898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EB9-6779-4209-99AA-C514A630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E726F-C645-488A-952B-BE58823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7567BA-1F87-42FE-88CC-9A6D49C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D89D8-50B0-4801-BCA8-8927F51C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DA99DA-B940-4C24-9DE8-2CCD32B3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F85835-88DC-4A67-BCF1-7700247F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733F7-AD56-4CCA-801E-60CDE1FC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0CF3B-D742-41BD-B56B-1B2F806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1291B-D8D8-4FE3-AE4E-7FC06057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16B60A-7E62-4C50-8F54-2FC70E54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08DDA-BC05-49CF-9C0C-BBF0A8A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DA0A-4FE7-401C-92FC-E48D73C0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61AC6-A3B8-4DB8-A7B8-DF4D589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25390-5D9A-4A50-A0CB-779DBAB8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3EDF0-14A4-4A7B-B69E-7F78AD75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68390-2EC7-48B2-A025-7716361D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9071FD-76B9-4C86-A81A-9CB9B7F0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B5F7-C915-4C77-8728-771028B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B1F1-5F6D-45AC-AD8A-33F545BC82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0F3D-4B0E-4900-B06D-03663A2AF1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B678-AC3E-4E15-B0D1-4926273D729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7031-8F0C-4D6F-B862-6E88A220E41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9CFE-89FC-435B-A71F-CFE6BE4C21C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067-83B2-4D51-B1C8-9C3AD1A0BCA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9634-AE6B-46FF-BE39-9BFEE7EAE0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179280" y="333360"/>
            <a:ext cx="8964720" cy="51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rint “Calcular área y perímetro de círcu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input(“radio?“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3.14*r**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2*3.14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”ingresar nº alumnos de colegios: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públic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input(“subvencionado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input(“particulares?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actor=100.0/(a+b+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úblicos=“, a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subvencionados=“, b*factor, ”%“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articulares=“, c*factor, ”%“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EJERCICIO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Schoolbook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-56016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1523880" y="3886200"/>
            <a:ext cx="5372280" cy="2400480"/>
            <a:chOff x="1523880" y="3886200"/>
            <a:chExt cx="5372280" cy="2400480"/>
          </a:xfrm>
        </p:grpSpPr>
        <p:sp>
          <p:nvSpPr>
            <p:cNvPr id="385" name="AutoShape 8"/>
            <p:cNvSpPr/>
            <p:nvPr/>
          </p:nvSpPr>
          <p:spPr>
            <a:xfrm>
              <a:off x="1523880" y="38862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3238560" y="41148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3580920" y="43434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5"/>
            <p:cNvSpPr/>
            <p:nvPr/>
          </p:nvSpPr>
          <p:spPr>
            <a:xfrm>
              <a:off x="3580920" y="43434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465120" y="479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79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0:05:11Z</dcterms:created>
  <dc:creator>jalvarez</dc:creator>
  <dc:description/>
  <dc:language>en-US</dc:language>
  <cp:lastModifiedBy>Victor Ramiro</cp:lastModifiedBy>
  <cp:lastPrinted>2006-03-14T15:11:26Z</cp:lastPrinted>
  <dcterms:modified xsi:type="dcterms:W3CDTF">2011-03-11T02:27:22Z</dcterms:modified>
  <cp:revision>77</cp:revision>
  <dc:subject/>
  <dc:title>Sin título de diapositiva</dc:title>
</cp:coreProperties>
</file>