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660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A8F4-FA0F-46FD-992D-6D139DB5893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7176-E308-43A3-AE76-AFA2DEE776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A59D-C094-4FB0-9EDE-83826CBC6E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2B08-B1A9-4940-BB54-17233A7D5C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5081-4481-4ACD-B17E-3A5550FD77D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183B-AE85-4A02-A01D-6E2AC73A61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E5AC-4CF0-4661-B432-4D6242D8D71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49EE-DDBC-4060-ABE7-22024D57827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83A1-4C4E-4A7B-9728-0CD0CCC97D9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1788-CEF4-4A05-B217-76B88AC312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E879-8A27-4A40-8E7E-DD21CE3A944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71D2-F6DC-4DD8-9BDD-CDC2C981A59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934-78C5-497A-9185-DAF506EF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721-0AF5-4573-990F-6170C900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D2B-B01A-47E8-B575-9C1C347F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230-EF12-4319-8159-6A21ED2A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ABEA-F717-4904-8CBA-9089667E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794C-1946-49FF-ABD7-0B4CB6ED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4B7B-775C-44D8-A055-4CB29C82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F763-57FE-47F5-825F-7450B8A8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E80B-C5C8-47FA-847B-9B4BF2D2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5797-C70B-4023-A2B7-17D4BF48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5892-02CD-423F-B924-56421D89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AB1C-11B3-400D-ADA0-C816DDD6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69FE-7DAC-4391-9EC0-9D668984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54D2-DF47-4BF1-9287-35A2EE8E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0D51-6C2C-4D60-8FFA-254601B8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E759-F055-41ED-8155-857471AC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55AD-5EEF-430C-B96E-9B2F4999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E6AA9-64A2-4AFA-82F9-E22DABF2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DAEDB-F1AB-428E-855D-7E7D7DFC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65502-1E1F-4D3C-BFDE-A53A9CB1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F4540-CB93-49E1-9749-D2ECC6A4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518A4-AF0E-4A14-B7F4-44E3CCED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5AC-3876-490A-AC7E-0F2225BB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3D182-C693-4824-A870-1B898F31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A8CC6-D7E4-44A1-91D1-827C7056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3557C-E991-414A-B031-988D5941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EC170-4626-4842-86D3-8D0CA95C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85A62-0617-4BCD-8F54-FAB4E0FA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530FE-BD6F-43A6-A9E7-8D7C119F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68BA5-CAC1-45DE-A3BD-E1DBFE96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61D7B-094A-4ECC-BE47-3332DF7A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CF2E8-5474-4552-B5D9-1079C43B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C00BA-7E1F-4DD9-A901-DF635B0C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8D1-0120-4B56-9640-EE26092E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F84A4-557A-4EC2-8178-44694EEC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C655E-FB20-4F67-A35D-6DB8D01E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45559-8595-418C-872F-39FD4916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11943-C93D-4714-B715-FA5BB9E9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46E7C-6750-451D-AB61-253E6EA6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3A14D-20FF-434F-943D-C2FF8EFE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CA4A2-748E-401A-8BDA-2E7C65E4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70DD4-CAF4-47C3-9B98-939E91A1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D8303-FBFF-4042-B2C0-23B1DF73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A4337-9F59-447F-8F85-4D211107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2ED-4B4D-4825-BA3A-30258E9E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779FA-4393-41A7-9391-CAEE2F9C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F43CD0-026E-43B4-B64C-4923215A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BA249-19E3-4023-B0E6-CC6C5C1C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131F4-A38E-4A3F-BF86-2E36718C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A8F97-27B0-4594-A7EB-B1CCBEF6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2CFAB-ACDE-4179-BB6F-3AE1CD1C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78E508-8B70-499D-93D7-D820133E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83CA6-291C-48D3-B582-DEC0BD62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8EEE0C-B436-407B-806E-AB28310C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484FBE-C6C0-4F8D-96C1-F556C5B3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327-E184-4564-A8BA-09840582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39BAC-C5CB-4A23-9C11-450D05CC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F440A-29D2-4A64-B5F8-C42A5D3D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4D80DA-B6D4-465D-BD7A-FF5347A0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5FE7C-1377-469A-9691-72F9BD44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41CD46-E340-44B7-880F-A3B1640E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A77ED3-BB4F-4B70-BD66-4C71E7D8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D1CE87-A8C5-42D9-ACFA-9A04EA15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CA669-9737-4812-B50A-70EA9AEE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0C314-FE67-4975-93F4-67769A81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B0612B-2D15-4B27-A1FA-425811E2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006-D32A-442D-9D2B-54726D86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9E523-2E39-4C45-B4BF-0F1CE3D7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E619F-6306-4146-9C29-7A636448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646D97-6761-4B7F-9B4C-D55233DB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D1C039-ACA9-4BBC-8EDB-9BFED764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240F8-7D95-4098-8D95-B9433F24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9E4525-4AF6-4C0B-9122-BC5EC74F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1695F6-29D4-4B5A-9B93-B0ECAB33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3C1CA8-38B5-4C7D-9DB3-E9F1F769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59B416-B00A-4C6A-B815-4ACADDEF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58A0A5-33FB-4F7C-9F17-14977F7F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445-7C1D-4148-A7DB-1E11BB39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1B12D3-0478-4457-8E91-6C3BB61F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C25D8-BD47-4D88-A646-C6E2E9B4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BE06A-DF85-4183-AF28-733A8777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C2C25-3016-4D83-B31D-FD0CD6B7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3D1CB-0840-4627-8723-10B01D75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22F-ADAA-4B25-966D-92F29525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308D-F5E5-4BA0-AD01-EC2701C1B4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1421-5863-426E-A78A-F9E33C2E56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B424-82FB-468C-9316-FF802135B9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3333-1ACD-4501-9EFC-869567A531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577F-07CE-4763-A138-F177C5D3A9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BEE0-E375-4642-8FD0-0F751A415B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C495-188C-4262-9981-65FB5675B3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575f6d"/>
                </a:solidFill>
                <a:latin typeface="Century Schoolbook"/>
              </a:rPr>
              <a:t>LENGUAJE PYTHON: </a:t>
            </a:r>
            <a:r>
              <a:rPr b="1" lang="es-ES_tradnl" sz="2400" spc="-1" strike="noStrike">
                <a:solidFill>
                  <a:srgbClr val="575f6d"/>
                </a:solidFill>
                <a:latin typeface="Century Schoolbook"/>
              </a:rPr>
              <a:t>CARACTERÍSTICAS</a:t>
            </a:r>
            <a:r>
              <a:rPr b="1" lang="es-ES_tradnl" sz="2200" spc="-1" strike="noStrike">
                <a:solidFill>
                  <a:srgbClr val="575f6d"/>
                </a:solidFill>
                <a:latin typeface="Century Schoolbook"/>
              </a:rPr>
              <a:t> GENERALES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inspirado en idioma inglé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palabras print, inpu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uso de notación matemática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expresiones: 100.0*h/(h+m), p-10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funciones: input( 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sintaxis (gramática, escritura) reglamentad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cada instrucción en una líne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palabras con significados especiales (input, print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uso de minúsculas (salvo casos especiales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semántica (interpretación) precisa (sin ambigüedades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instrucciones con significado/efecto bien definid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5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2:30:19Z</dcterms:created>
  <dc:creator>jalvarez</dc:creator>
  <dc:description/>
  <dc:language>en-US</dc:language>
  <cp:lastModifiedBy>Victor Ramiro</cp:lastModifiedBy>
  <cp:lastPrinted>2006-03-07T16:10:21Z</cp:lastPrinted>
  <dcterms:modified xsi:type="dcterms:W3CDTF">2011-03-09T03:37:47Z</dcterms:modified>
  <cp:revision>96</cp:revision>
  <dc:subject/>
  <dc:title>Sin título de diapositiva</dc:title>
</cp:coreProperties>
</file>