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60EE-D57C-4D87-B0F2-05EAB0F202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101D-4A35-4CC4-80DE-E0F903BA533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2910-D766-42BA-9DEE-520638C494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70F4-ABDC-4810-92E2-6185E7B08A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CFDC-1E96-4912-A978-7F3B487D6A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9C3E-86C0-41B9-AD6F-2B36D6E6B78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741D-5CE0-4983-ABC9-3D087108AA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9CD2-640E-4C93-B7A4-1D5BD22F1D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BEEE-B8B1-414A-8624-6D552A69C5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4C98-9439-487A-B1EF-E2C87AD3317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FC8F-A5A3-44F7-BCD3-74638FDC03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965B-E321-4D4B-8607-509C5254D1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99C-2E64-4A15-9865-4CB8A87A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9F8-BBEC-40B3-BFB8-98A3D914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A0E-F759-4787-BF75-1156F256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F95-B805-484E-A9E3-D050660A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A94B-D6C1-470C-87BE-FE9BFF1A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9C22-EB37-46B7-ACBD-973E5755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3CA5-6E3D-4715-8D0A-D743DAF1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07AE-410F-4282-BA11-E1B8A30F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2814-0A86-4650-B326-CD15C2BF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7CE4-4986-4F61-B207-CF39F38D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0F0E-4074-4C01-A932-4E0F158F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BE3-49A6-400F-8EAD-F67803A7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F3A9-7AF4-4198-B620-C856435E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A3C0-531D-4595-8229-512274B9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6B8D-5296-4990-9D26-84C1A8AB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6868-27D5-4A16-9266-E05889F0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267C-AAC1-4CEF-9E79-1E7962D2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EFBA8-7ABD-499C-BC13-9EB5299D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55B26-E0E6-46C0-93CA-26BD6CED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512BD-1A30-4DAA-A5D4-3725E6F2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0E37D-44FA-4C21-A022-EEDE59EF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39A77-D8F9-4B6C-A878-A1082013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F07-B580-4415-A932-174DBB1A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F59DD-3DEE-44DC-8BA0-F304BCE4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CC82C-979B-4087-8AC5-E5FFDA03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BC03F-9D36-4712-9CF9-8B0C60B5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15FEF-93F7-43ED-A91E-BC6E3BD1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B1FA5-28DA-47F9-A75C-6CBFBE3A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30ECA-F9F9-4EE1-8DDD-B8223094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41F72-E021-4E26-90B2-0E860DEC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6A88F-55EC-4288-AE91-9B090267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C162A-22C3-4615-9758-2F8823E6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4BFCD-DB99-4B53-A2CF-A6D49341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C28-A441-4571-8A7E-BB7EDF21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CB96-A8AB-4FF2-B7B6-895E7244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7D0CC-6258-4CD9-92E5-E714909E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52305-5FE6-4E1D-B85C-30FB6765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36D6-36DC-43D3-9EBE-A35C7921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520D-05B3-432E-9416-01132FB9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BB007-4DDD-4613-91C3-D03D2E8F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C59D5-6464-4383-9B0C-89821147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2FB32-C21F-486F-B0CE-D4D885E8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6A16-2BD0-45E4-9433-976B2758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FDAD9-1689-442B-AE81-A79C2040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437-EB1E-45A1-A890-2F463EFC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19E6FA-2B32-4C1B-9E39-D1E97C3D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02D5C-AC9C-47D5-A7BB-B4077806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C4010-EBE2-4627-B014-F56FE02D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AF073-FCC5-4085-B761-BF10F645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87009-3265-44E4-929B-7F9531D9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D9CF4-2013-4ACA-A593-6DC65DB0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DDB47-2351-41EA-852F-29AD52DF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E01AC-5F8C-4DC6-8CA1-9F43CB3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85D2D-6818-4071-9409-A683F1B5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96854-C177-4A47-8A8D-2A91E32B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2BE-F242-47BA-ADE4-2B6476E6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5E6B7-F4DD-4BA4-8253-A3293B87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68DF4-D419-4E82-923B-C4C79EE7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A00F8-EA75-449F-995E-E38C2925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18984A-00B5-49B7-90EB-E8799026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E56C8-D21D-43B0-9C38-091708C2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A9743-A063-4358-9F27-B49C3D6D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1E98D-ACA1-4195-A1C5-8DFF6933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DBD32-B505-4EEC-A59B-DCFFD1D1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272D7-E8F5-4902-972B-980DEC63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649D23-9711-4C2B-BC28-CC201552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4CB-EC2E-498D-BACE-B24A5013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52234-82A8-4F71-81EE-B71A9478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57F73C-6730-4C22-9678-D2634C43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F48988-42EE-4DC0-8172-EEBDDF4F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0D6E1-C7A7-4F71-8077-6D1C8BC6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A22B2-9AD3-48EF-BB7E-281B6510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77EFA-2ABD-435A-BE6A-4DBC4B69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B83A6-F026-4F6E-9EFC-51BB012A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B2BB7-8193-47F0-A849-29794727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6B305-B63C-4672-9CF3-29D42CBC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457B0-C7BE-40CB-8B4A-7A650439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349-689C-415C-9A45-B4FE59B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AD4B0-0BF1-4958-A5E3-A66A1C84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FD716-E98E-4AFE-B636-0C4E1E02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5096D-714E-4324-9EDC-C607DC8F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2375E-6E1B-4F69-BD4D-F1D11C78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265B7F-C8D5-4680-A55E-95CB1B67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754-9676-4D69-9452-F4F1D7CE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6074-7F5C-47C4-A1F7-44C68C1B1A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54AC-E27D-442D-BC64-C994E35249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19E4-DAE6-4C5A-88C4-E86F1F2E4E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4354-02E4-4EE6-86CE-FAA6D74DF8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C18F-92FD-468C-B00B-496645B201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6663-4CBB-4774-8FA3-25751F6A52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114E-2F41-4294-8734-70CFAF6408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575f6d"/>
                </a:solidFill>
                <a:latin typeface="Century Schoolbook"/>
              </a:rPr>
              <a:t>LENGUAJE PYTHON: </a:t>
            </a: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CARACTERÍSTICAS</a:t>
            </a:r>
            <a:r>
              <a:rPr b="1" lang="es-ES_tradnl" sz="2200" spc="-1" strike="noStrike">
                <a:solidFill>
                  <a:srgbClr val="575f6d"/>
                </a:solidFill>
                <a:latin typeface="Century Schoolbook"/>
              </a:rPr>
              <a:t> GENERALES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inspirado en idioma inglé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palabras print, inpu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uso de notación matemática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expresiones: 100.0*h/(h+m), p-10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funciones: input( 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sintaxis (gramática, escritura) reglamentad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cada instrucción en una líne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palabras con significados especiales (input, print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uso de minúsculas (salvo casos especiale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semántica (interpretación) precisa (sin ambigüedades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entury Schoolbook"/>
              </a:rPr>
              <a:t>instrucciones con significado/efecto bien definid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2:30:19Z</dcterms:created>
  <dc:creator>jalvarez</dc:creator>
  <dc:description/>
  <dc:language>en-US</dc:language>
  <cp:lastModifiedBy>Victor Ramiro</cp:lastModifiedBy>
  <cp:lastPrinted>2006-03-07T16:10:21Z</cp:lastPrinted>
  <dcterms:modified xsi:type="dcterms:W3CDTF">2011-03-09T03:37:47Z</dcterms:modified>
  <cp:revision>96</cp:revision>
  <dc:subject/>
  <dc:title>Sin título de diapositiva</dc:title>
</cp:coreProperties>
</file>