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660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7139-614E-46A8-8A2A-A973A1229C4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D289-1C92-4F1E-9F2C-B4958B21CE3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88A3-6603-4E99-91DD-6555F955762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C5D6-3206-4684-9D36-DC91E50A9F2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7166-6A70-4C78-A11B-DF12E68684A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4AF6-5D13-4305-8CF6-03556EC2EB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65B1-FD88-4C87-9261-12F4F778911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23D5-179B-4F75-BFF1-85D6AAD7BC4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BC25-B337-410F-9A6B-0E3DACDD8E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9683-F5F7-4116-9C89-637094674CB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E2A3-E5BC-476A-B053-5F10E4F2588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592E-A5BE-40F4-8EEB-199D1044620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B9E-BCDC-4E18-AD40-28BABFBA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5CF9-D2A9-4E7A-B672-C2FF269C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C1A-E6E1-4E0B-9C84-272E031D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25E-AC4D-4D0E-874D-5AA76602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B7A9-9169-4E5B-9A3A-8CF68415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29A6-A5B0-42BB-8C8E-33E7D15C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F426-C5EC-4A2A-898A-AE6DCCE9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3609-C4C5-4E2F-A3EB-F7C4CC72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AEAD-F78D-431E-9E97-4939CA9F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7E50-2E54-415C-81D3-88231D12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1FD8-B64F-49E4-B332-E714D0B8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FE3-ECD8-4475-9585-B9911C2D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1B0D-DB6F-4CD1-9619-BB052F3C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2351-AE5A-49A6-938F-B1666CD5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DE95-1B38-4057-A0B1-908146AC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A17F-246A-43E9-A919-A8F48A07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24D6-94B0-49F9-8451-67247EBA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E2A4E-A272-4331-A9A9-38FAB319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09DA0-F6F1-4902-A6CD-696CC8F4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8287C-6E43-4CBC-87B0-D3E2D281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E450C-35F0-4458-A8DB-90C4EDAF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D148B-B5BD-4164-99D0-0BEC68CF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89C-4A13-4B1B-BE90-CFCAA489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AAFF4-15C3-4AE1-A6EC-01748718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63625-F272-40DE-9344-CE92946E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3B566-5288-433F-A15B-139303B5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9EC50-9DE0-4094-BE29-39D5B6FD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8AB38-E8E1-4CD2-9914-D979D701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82A63-4B13-4714-BF46-40815936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DC482-EE2E-4DE7-9084-824B9439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36C45-6F52-440D-8BFE-59A549C0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35FF1-187B-4B21-9007-DE902B90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0ED91-ECF4-4BEF-B5B9-8F5FB4D4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DC1-DE16-455F-81FA-13435676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6A761-2345-4566-8A94-227F9EFD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27452-9E13-4936-AE6B-F07A03A1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F0457-9892-4279-9236-16945FCE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2BDDE-A3C4-4A67-B994-32275943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E79A9-B019-49DB-AA85-F39EFD16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52C13-BCC0-490D-B677-F3B17A3D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ACE0A-49F8-4164-B4E5-6D0ECA3C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6D57-9EF3-4CC1-BEBF-890EBABF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1FAB9-888F-43B9-BF21-3E218522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F10D5-E957-4E2A-8552-816A1B8E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402-DF13-48BA-83A6-D2FB7BDF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A02789-8E6D-4693-B544-0CDD7423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CE303C-3F6A-4F89-9EAC-3F1EC341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0A46E5-DE3D-49F2-B9FB-F6793E10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EC389-BEA9-48AA-9EBB-80370515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D9D18-87B7-4461-B62C-ADEE57A0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C55473-91B0-4065-B2EC-BE92AABC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4C1714-0CB5-4491-A3F7-A194673C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90516-219E-4D62-8537-CACB0FAE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ED55D9-F0E8-4F28-BBDC-433D0C5D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7DBCC6-13E9-4C39-A352-8065BE8C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A90-CF87-422F-91E2-93A6984A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87E96-479A-476A-8248-0F14930F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CBCB38-E24D-4C1D-9197-63B30B63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F8823-E866-47B7-B21B-72B5FBA7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4A5C98-CD9A-4F9C-B663-FB40BD5B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78187F-086B-4380-A5B2-60916DB4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19999-3B7D-4032-9F39-CCE30673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13575F-A37B-42DE-8CA7-04355B83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10430D-724C-4D18-8F4C-787BD160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B83986-1D6A-4912-A313-BAD0B4B4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0FE68D-F8E9-4104-BB6B-3AD7C5AC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DDE9-A563-49F7-B585-C01E2588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AA59A-5068-405E-8B12-898704C8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CFC09-CD25-44D7-BD87-E2814066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5DA1B-2291-48AB-9AC4-5023C5DA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1A6947-C078-4A23-9B93-CFA633F5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2777E-E74B-4109-82CF-81E7AE9C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436268-04ED-4D5E-869A-C0C5CF70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51BF93-365C-48E3-94CE-EC73962E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064FED-2F41-47E8-A6BE-755FC5B5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01968-05B8-4AFA-BBB4-4747D8BD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266F88-92F1-4BEB-855B-DE4D04D0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B5C-C9AB-4650-B0C7-F9967665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9C55BB-D242-49B6-8A2D-5091190C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B57A32-D855-4D45-B0EC-7A370289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2A67B7-29E6-4137-B0C1-CE89CC74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E392C1-EFF4-4F51-9A00-42E446A4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8CD7C4-EB8A-411F-B9DC-BD70601D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8EC2-8600-47B8-8466-F8E139B3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6B49-BC99-4195-AC15-24E255982C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D2E3-7D83-4F4D-A1AB-4A21122315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E9D6-7073-4EE1-828E-74F428F9BD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0360-D3FE-43C9-8B86-8FDCAFD596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D1BE-61D0-4CDF-AA71-D4491928D9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6024-3623-4263-B94E-B18B3606D3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82E9-FA7D-4B04-B517-4AD585FC35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575f6d"/>
                </a:solidFill>
                <a:latin typeface="Century Schoolbook"/>
              </a:rPr>
              <a:t>LENGUAJE PYTHON: </a:t>
            </a:r>
            <a:r>
              <a:rPr b="1" lang="es-ES_tradnl" sz="2400" spc="-1" strike="noStrike">
                <a:solidFill>
                  <a:srgbClr val="575f6d"/>
                </a:solidFill>
                <a:latin typeface="Century Schoolbook"/>
              </a:rPr>
              <a:t>CARACTERÍSTICAS</a:t>
            </a:r>
            <a:r>
              <a:rPr b="1" lang="es-ES_tradnl" sz="2200" spc="-1" strike="noStrike">
                <a:solidFill>
                  <a:srgbClr val="575f6d"/>
                </a:solidFill>
                <a:latin typeface="Century Schoolbook"/>
              </a:rPr>
              <a:t> GENERALES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inspirado en idioma inglé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palabras print, inpu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uso de notación matemática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expresiones: 100.0*h/(h+m), p-10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funciones: input( 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sintaxis (gramática, escritura) reglamentad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cada instrucción en una líne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palabras con significados especiales (input, print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uso de minúsculas (salvo casos especiales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semántica (interpretación) precisa (sin ambigüedades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instrucciones con significado/efecto bien definid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5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2:30:19Z</dcterms:created>
  <dc:creator>jalvarez</dc:creator>
  <dc:description/>
  <dc:language>en-US</dc:language>
  <cp:lastModifiedBy>Victor Ramiro</cp:lastModifiedBy>
  <cp:lastPrinted>2006-03-07T16:10:21Z</cp:lastPrinted>
  <dcterms:modified xsi:type="dcterms:W3CDTF">2011-03-09T03:37:47Z</dcterms:modified>
  <cp:revision>96</cp:revision>
  <dc:subject/>
  <dc:title>Sin título de diapositiva</dc:title>
</cp:coreProperties>
</file>