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39440"/>
            <a:ext cx="49417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47FF-4ECA-488F-A1D2-07F26F6FA4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FF59-5C57-4F8F-955F-C1C36B3D71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3F9D-9671-4F1D-821F-9FE4C3D895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269-14B0-49E9-B219-E9BC1598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541-74E5-4149-8209-356C0884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8CE-5B01-423F-9C1B-562DCB64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369-CD24-4ECC-BA6A-7B359C65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201-C5F6-4CE3-BDB9-A8410D4C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38F-6393-4075-A3C5-E56DF5D0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4A98-8343-43CC-9875-190CB25D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910-5EB0-4BBD-B059-84960248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6F7-515D-4C00-839F-FFFFEE79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64D-02F0-47B3-B431-BAB10FFD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C0E-743C-446B-84C0-9DCFD61A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788-8356-4D3B-8B7D-152692ED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79A3-247F-49FA-AA4F-2660BC498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90440" y="600120"/>
          <a:ext cx="7267680" cy="75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600120"/>
                    <a:ext cx="7267680" cy="75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3"/>
          <p:cNvGraphicFramePr/>
          <p:nvPr/>
        </p:nvGraphicFramePr>
        <p:xfrm>
          <a:off x="639720" y="212760"/>
          <a:ext cx="8016840" cy="61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212760"/>
                    <a:ext cx="8016840" cy="61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762120" y="503280"/>
          <a:ext cx="8137440" cy="70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03280"/>
                    <a:ext cx="8137440" cy="70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746280" y="351000"/>
          <a:ext cx="775800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351000"/>
                    <a:ext cx="7758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33440" y="461880"/>
          <a:ext cx="8562960" cy="618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61880"/>
                    <a:ext cx="8562960" cy="61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501480" y="649440"/>
          <a:ext cx="836784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649440"/>
                    <a:ext cx="836784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41440" y="480960"/>
          <a:ext cx="8426520" cy="71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80960"/>
                    <a:ext cx="8426520" cy="71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5"/>
          <p:cNvGraphicFramePr/>
          <p:nvPr/>
        </p:nvGraphicFramePr>
        <p:xfrm>
          <a:off x="550800" y="511200"/>
          <a:ext cx="8248680" cy="67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24868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550800" y="511200"/>
          <a:ext cx="8072640" cy="659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7264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suma(x,y)#x + (x+1) + … +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permutaciones(x,y) #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combinaciones(x,y) #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fibonacci(i)#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inverso(x)#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1268280" y="797040"/>
          <a:ext cx="7000920" cy="53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797040"/>
                    <a:ext cx="700092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42920" y="776160"/>
          <a:ext cx="7423200" cy="58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76160"/>
                    <a:ext cx="742320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66800" y="480960"/>
          <a:ext cx="8130960" cy="62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8130960" cy="62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766800" y="480960"/>
          <a:ext cx="7983360" cy="64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7983360" cy="64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914400" y="619200"/>
          <a:ext cx="730584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19200"/>
                    <a:ext cx="730584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1130400" y="923760"/>
          <a:ext cx="7305480" cy="524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3760"/>
                    <a:ext cx="7305480" cy="52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.A. Pino</dc:creator>
  <dc:description/>
  <dc:language>en-US</dc:language>
  <cp:lastModifiedBy>jpino</cp:lastModifiedBy>
  <cp:lastPrinted>2006-03-22T18:37:38Z</cp:lastPrinted>
  <dcterms:modified xsi:type="dcterms:W3CDTF">2011-03-24T12:41:04Z</dcterms:modified>
  <cp:revision>42</cp:revision>
  <dc:subject/>
  <dc:title>clase 5</dc:title>
</cp:coreProperties>
</file>