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39440"/>
            <a:ext cx="4941720" cy="370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91E9-289C-45CB-B687-4BE9D5AF5D0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3372-DC89-4D36-B76E-48075842DC6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7062-5641-48DA-869C-4BF496DCC14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3E55-0C22-4D0A-AD89-BCB8DEC7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2E26-6CEC-4FC2-9F9D-DBAA7069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8C90-A0FB-49D3-9CDC-3CC55963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4A26-F23E-44DA-950C-A995BFCD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9154-2893-4F63-B2E8-A3E2BB33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0F3E-F897-45E1-A69F-D64CD6B7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E632-B950-4E46-84DC-973CBFDE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479E-E35D-4005-B830-56A0A509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1ED5-A949-4976-8BA6-6BD9A2EC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7B39-AFA3-41F7-BBF0-FA0FCA03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1E23-18A0-4046-AF7E-BBCB4DF3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1CB6-1083-4436-8B67-B6070515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3E83-00C6-4FA3-913C-11C3D5F97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90440" y="600120"/>
          <a:ext cx="7267680" cy="758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600120"/>
                    <a:ext cx="7267680" cy="75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3"/>
          <p:cNvGraphicFramePr/>
          <p:nvPr/>
        </p:nvGraphicFramePr>
        <p:xfrm>
          <a:off x="639720" y="212760"/>
          <a:ext cx="8016840" cy="612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212760"/>
                    <a:ext cx="8016840" cy="61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762120" y="503280"/>
          <a:ext cx="8137440" cy="70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03280"/>
                    <a:ext cx="8137440" cy="70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746280" y="351000"/>
          <a:ext cx="7758000" cy="51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351000"/>
                    <a:ext cx="77580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33440" y="461880"/>
          <a:ext cx="8562960" cy="618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61880"/>
                    <a:ext cx="8562960" cy="618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501480" y="649440"/>
          <a:ext cx="836784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649440"/>
                    <a:ext cx="836784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41440" y="480960"/>
          <a:ext cx="8426520" cy="71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480960"/>
                    <a:ext cx="8426520" cy="71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5"/>
          <p:cNvGraphicFramePr/>
          <p:nvPr/>
        </p:nvGraphicFramePr>
        <p:xfrm>
          <a:off x="550800" y="511200"/>
          <a:ext cx="8248680" cy="675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248680" cy="67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550800" y="511200"/>
          <a:ext cx="8072640" cy="659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07264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s propues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5800" y="1989000"/>
            <a:ext cx="82072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suma(x,y)#x + (x+1) + … +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permutaciones(x,y) #x!/(x-y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combinaciones(x,y) #x!/(y!(x-y)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fibonacci(i)#entrega i-ésimo nº de Fibona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ros: 0, 1, 1, 2, 3, 5, 8, 13, 21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inverso(x)#inverso(123) entrega 3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1268280" y="797040"/>
          <a:ext cx="7000920" cy="53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797040"/>
                    <a:ext cx="700092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1042920" y="776160"/>
          <a:ext cx="7423200" cy="586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776160"/>
                    <a:ext cx="742320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766800" y="480960"/>
          <a:ext cx="8130960" cy="625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480960"/>
                    <a:ext cx="8130960" cy="62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766800" y="480960"/>
          <a:ext cx="7983360" cy="642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480960"/>
                    <a:ext cx="7983360" cy="64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914400" y="619200"/>
          <a:ext cx="730584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19200"/>
                    <a:ext cx="730584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1130400" y="923760"/>
          <a:ext cx="7305480" cy="524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3760"/>
                    <a:ext cx="7305480" cy="524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.A. Pino</dc:creator>
  <dc:description/>
  <dc:language>en-US</dc:language>
  <cp:lastModifiedBy>jpino</cp:lastModifiedBy>
  <cp:lastPrinted>2006-03-22T18:37:38Z</cp:lastPrinted>
  <dcterms:modified xsi:type="dcterms:W3CDTF">2011-03-24T12:41:04Z</dcterms:modified>
  <cp:revision>42</cp:revision>
  <dc:subject/>
  <dc:title>clase 5</dc:title>
</cp:coreProperties>
</file>