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82400" cy="988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9760" y="-360"/>
            <a:ext cx="294012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520" y="739440"/>
            <a:ext cx="4941720" cy="370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976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D96A0-7A70-4402-9232-483140175D28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06C2-6228-4F0F-BFD6-B60C9E84CC9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0"/>
            <a:ext cx="29401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Recur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5: J.A. Pin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3840120" y="9385200"/>
            <a:ext cx="294012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2F5C2-E85E-4EA4-9DD6-EE6FE85A0A6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0880" y="73980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7880" y="4692600"/>
            <a:ext cx="542592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16F4-DEFD-4350-B3E5-5148A351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7DB2-A0B1-41E2-B538-C934195F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724B-3A58-417B-9F77-BC784582E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C961-0F24-4F25-8D14-7955D2CB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C818-308F-4B44-A138-DF3B26FBD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E4BF-FB46-4F6D-93FA-3826D7C52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4CA7-1894-4B00-AE41-6D2119F93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AA4-5B0D-476D-BBB6-7A30211B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AE9E-7331-4DC5-A23E-FEF5E52F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E920-22DF-4B14-8762-74FFB757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935B-2149-4A83-A164-357799091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C42-99F7-47D1-873A-ED23717E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D98-1226-4CB7-B274-5F992328C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090440" y="600120"/>
          <a:ext cx="7267680" cy="75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0440" y="600120"/>
                    <a:ext cx="7267680" cy="75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3"/>
          <p:cNvGraphicFramePr/>
          <p:nvPr/>
        </p:nvGraphicFramePr>
        <p:xfrm>
          <a:off x="639720" y="212760"/>
          <a:ext cx="8016840" cy="612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12760"/>
                    <a:ext cx="8016840" cy="612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62120" y="503280"/>
          <a:ext cx="8137440" cy="70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03280"/>
                    <a:ext cx="8137440" cy="70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2"/>
          <p:cNvGraphicFramePr/>
          <p:nvPr/>
        </p:nvGraphicFramePr>
        <p:xfrm>
          <a:off x="746280" y="351000"/>
          <a:ext cx="7758000" cy="518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351000"/>
                    <a:ext cx="775800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33440" y="461880"/>
          <a:ext cx="8562960" cy="6185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61880"/>
                    <a:ext cx="8562960" cy="618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01480" y="649440"/>
          <a:ext cx="836784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" y="649440"/>
                    <a:ext cx="836784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4"/>
          <p:cNvGraphicFramePr/>
          <p:nvPr/>
        </p:nvGraphicFramePr>
        <p:xfrm>
          <a:off x="541440" y="480960"/>
          <a:ext cx="8426520" cy="718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440" y="480960"/>
                    <a:ext cx="8426520" cy="718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5"/>
          <p:cNvGraphicFramePr/>
          <p:nvPr/>
        </p:nvGraphicFramePr>
        <p:xfrm>
          <a:off x="550800" y="511200"/>
          <a:ext cx="8248680" cy="6754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2486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4"/>
          <p:cNvGraphicFramePr/>
          <p:nvPr/>
        </p:nvGraphicFramePr>
        <p:xfrm>
          <a:off x="550800" y="511200"/>
          <a:ext cx="8072640" cy="6597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00" y="511200"/>
                    <a:ext cx="8072640" cy="659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blemas propues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685800" y="1989000"/>
            <a:ext cx="8207280" cy="41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suma(x,y)#x + (x+1) + … +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permutaciones(x,y) #x!/(x-y)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combinaciones(x,y) #x!/(y!(x-y)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fibonacci(i)#entrega i-ésimo nº de Fibona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nros: 0, 1, 1, 2, 3, 5, 8, 13, 21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f inverso(x)#inverso(123) entrega 32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1268280" y="797040"/>
          <a:ext cx="7000920" cy="533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8280" y="797040"/>
                    <a:ext cx="700092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42920" y="776160"/>
          <a:ext cx="7423200" cy="5861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776160"/>
                    <a:ext cx="7423200" cy="586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1336680" y="952560"/>
          <a:ext cx="5294160" cy="483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952560"/>
                    <a:ext cx="5294160" cy="483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766800" y="480960"/>
          <a:ext cx="8130960" cy="6254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8130960" cy="62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4"/>
          <p:cNvGraphicFramePr/>
          <p:nvPr/>
        </p:nvGraphicFramePr>
        <p:xfrm>
          <a:off x="766800" y="480960"/>
          <a:ext cx="7983360" cy="642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6800" y="480960"/>
                    <a:ext cx="7983360" cy="642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46280" y="588960"/>
          <a:ext cx="8145360" cy="7543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280" y="588960"/>
                    <a:ext cx="8145360" cy="754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914400" y="619200"/>
          <a:ext cx="7305840" cy="618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19200"/>
                    <a:ext cx="7305840" cy="61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1130400" y="923760"/>
          <a:ext cx="7305480" cy="5240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923760"/>
                    <a:ext cx="7305480" cy="524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.A. Pino</dc:creator>
  <dc:description/>
  <dc:language>en-US</dc:language>
  <cp:lastModifiedBy>jpino</cp:lastModifiedBy>
  <cp:lastPrinted>2006-03-22T18:37:38Z</cp:lastPrinted>
  <dcterms:modified xsi:type="dcterms:W3CDTF">2011-03-24T12:41:04Z</dcterms:modified>
  <cp:revision>42</cp:revision>
  <dc:subject/>
  <dc:title>clase 5</dc:title>
</cp:coreProperties>
</file>