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39440"/>
            <a:ext cx="49417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0A0F-7375-4BA3-B83C-08A9594982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72D8-44C6-425F-A15D-35322F42C09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8C2C-DF48-4A05-8396-F920DF7B44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888-8261-4AE0-904B-65BBA5A9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1500-E5A6-4ECC-980D-6F293EB2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12B-AAF3-43AA-BDB9-DE0CE2BF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A31-7135-4B83-AB17-AB268DA8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B9A-C66E-4645-B634-ED769120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C62-F39E-49AC-8D2B-5B4E4A10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B6C-E8B1-4842-A5B6-B9E436C8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284-4096-4C8E-812E-9B2745C4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94D4-832C-4548-97E4-B07EBD57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E48-2E37-49A3-983B-6FDA40CB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47AA-54C3-43B2-838B-0C266916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293-60A8-44B2-9011-3C6FA981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0CF0-640D-4600-86C7-756A72AC6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90440" y="600120"/>
          <a:ext cx="7267680" cy="75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600120"/>
                    <a:ext cx="7267680" cy="75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3"/>
          <p:cNvGraphicFramePr/>
          <p:nvPr/>
        </p:nvGraphicFramePr>
        <p:xfrm>
          <a:off x="639720" y="212760"/>
          <a:ext cx="8016840" cy="61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212760"/>
                    <a:ext cx="8016840" cy="61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762120" y="503280"/>
          <a:ext cx="8137440" cy="70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03280"/>
                    <a:ext cx="8137440" cy="70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746280" y="351000"/>
          <a:ext cx="775800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351000"/>
                    <a:ext cx="7758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33440" y="461880"/>
          <a:ext cx="8562960" cy="618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61880"/>
                    <a:ext cx="8562960" cy="61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501480" y="649440"/>
          <a:ext cx="836784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649440"/>
                    <a:ext cx="836784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41440" y="480960"/>
          <a:ext cx="8426520" cy="71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80960"/>
                    <a:ext cx="8426520" cy="71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5"/>
          <p:cNvGraphicFramePr/>
          <p:nvPr/>
        </p:nvGraphicFramePr>
        <p:xfrm>
          <a:off x="550800" y="511200"/>
          <a:ext cx="8248680" cy="67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24868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550800" y="511200"/>
          <a:ext cx="8072640" cy="659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7264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suma(x,y)#x + (x+1) + … +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permutaciones(x,y) #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combinaciones(x,y) #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fibonacci(i)#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inverso(x)#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1268280" y="797040"/>
          <a:ext cx="7000920" cy="53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797040"/>
                    <a:ext cx="700092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42920" y="776160"/>
          <a:ext cx="7423200" cy="58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76160"/>
                    <a:ext cx="742320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66800" y="480960"/>
          <a:ext cx="8130960" cy="62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8130960" cy="62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766800" y="480960"/>
          <a:ext cx="7983360" cy="64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7983360" cy="64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914400" y="619200"/>
          <a:ext cx="730584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19200"/>
                    <a:ext cx="730584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1130400" y="923760"/>
          <a:ext cx="7305480" cy="524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3760"/>
                    <a:ext cx="7305480" cy="52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.A. Pino</dc:creator>
  <dc:description/>
  <dc:language>en-US</dc:language>
  <cp:lastModifiedBy>jpino</cp:lastModifiedBy>
  <cp:lastPrinted>2006-03-22T18:37:38Z</cp:lastPrinted>
  <dcterms:modified xsi:type="dcterms:W3CDTF">2011-03-24T12:41:04Z</dcterms:modified>
  <cp:revision>42</cp:revision>
  <dc:subject/>
  <dc:title>clase 5</dc:title>
</cp:coreProperties>
</file>