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4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1B8EA0-5F5F-4854-B84E-01C7995C12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4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A40B80-27D8-4EC9-A7C2-71649678E9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4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B76F16-FA83-415A-839E-BC45A3C9A6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4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7AB658-D0C6-4E98-B3F2-78A84CA391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0DB-C1FF-4E81-90CD-4150A8E8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2EF-2FE6-4ED3-818C-95DF596E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DD8-38EA-45A8-8ECD-A14B1CE1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F11-56F5-4CE6-8C0B-23C37EA4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1B2-0F13-43DC-B812-52904364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D0A-1C30-4FE7-8E18-DEB87F7F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9E6-B142-42E6-83CE-A2AD2483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8E1-8D60-4272-B2E2-1D89B253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BEA-ABFF-4C0E-B98D-4341571B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85D-ADA8-4B5D-B3BB-BD64F66B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BA7-F471-45A8-BB25-6AD7C945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405-C29B-4A4D-B9C7-C8A6A770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D802-55F4-4378-ACB7-DB71F230B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33520" y="838080"/>
          <a:ext cx="8259480" cy="54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25948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3280" y="533520"/>
          <a:ext cx="825984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533520"/>
                    <a:ext cx="825984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.A. Pino</dc:creator>
  <dc:description/>
  <dc:language>en-US</dc:language>
  <cp:lastModifiedBy>jpino</cp:lastModifiedBy>
  <cp:lastPrinted>2005-01-12T14:41:26Z</cp:lastPrinted>
  <dcterms:modified xsi:type="dcterms:W3CDTF">2011-03-18T18:20:59Z</dcterms:modified>
  <cp:revision>73</cp:revision>
  <dc:subject/>
  <dc:title>clase 4</dc:title>
</cp:coreProperties>
</file>