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397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1960" y="740880"/>
            <a:ext cx="4940280" cy="370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4480" cy="444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4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3976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77515E7-355A-48F9-8081-934D6CEC94D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4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384012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17DE7AE-C5CC-4233-9DC4-DD2259BE7FD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2232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44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4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84012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A215F3A-8BE7-4633-924F-D9AA7A1C16A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2232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44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4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84012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3EF49BC-C8EB-42A6-A808-F877779B8CB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92232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44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4C97-36C4-4577-A1BD-944782534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C7D7-703C-4787-ABC9-E990F0471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8A4E-60B7-491A-AF2A-B7F758EAD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09BE-230C-4CB7-BEFF-912A003FD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9994-F893-446A-8A75-160208B7F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A203-9535-40CF-91E2-970A95416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7EC8-114D-4272-A1E0-D50EFE513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C9AB-3603-4D5A-BF89-B7246FCC0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D8CB-2121-4765-B6A3-ADFD88626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E641-F472-43B5-B27E-DBAEC8CB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4380-6328-4653-B6F9-173CD11D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F051-1022-4976-B308-793E1EA9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879C4-9B8F-424B-B8B8-BC2821C4BF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992160" y="770040"/>
          <a:ext cx="7524720" cy="55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2160" y="770040"/>
                    <a:ext cx="7524720" cy="55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4"/>
          <p:cNvGraphicFramePr/>
          <p:nvPr/>
        </p:nvGraphicFramePr>
        <p:xfrm>
          <a:off x="755640" y="549360"/>
          <a:ext cx="8091360" cy="618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549360"/>
                    <a:ext cx="8091360" cy="61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179280" y="806400"/>
          <a:ext cx="8785440" cy="5430960"/>
        </p:xfrm>
        <a:graphic>
          <a:graphicData uri="http://schemas.openxmlformats.org/drawingml/2006/table">
            <a:tbl>
              <a:tblPr/>
              <a:tblGrid>
                <a:gridCol w="820800"/>
                <a:gridCol w="3756240"/>
                <a:gridCol w="4208400"/>
              </a:tblGrid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ile numero!=0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suma+num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n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 …,n,…,suma/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uenta=1 promedio=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5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148"/>
          <p:cNvSpPr/>
          <p:nvPr/>
        </p:nvSpPr>
        <p:spPr>
          <a:xfrm>
            <a:off x="3184560" y="136440"/>
            <a:ext cx="35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49"/>
          <p:cNvSpPr/>
          <p:nvPr/>
        </p:nvSpPr>
        <p:spPr>
          <a:xfrm>
            <a:off x="2700360" y="26028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79280" y="1052640"/>
          <a:ext cx="8713800" cy="4757760"/>
        </p:xfrm>
        <a:graphic>
          <a:graphicData uri="http://schemas.openxmlformats.org/drawingml/2006/table">
            <a:tbl>
              <a:tblPr/>
              <a:tblGrid>
                <a:gridCol w="814320"/>
                <a:gridCol w="3838680"/>
                <a:gridCol w="406080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ile numero!=0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suma+num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1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n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 …,n,…,suma/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uenta=2 promedio=5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ile numero!=0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Text Box 70"/>
          <p:cNvSpPr/>
          <p:nvPr/>
        </p:nvSpPr>
        <p:spPr>
          <a:xfrm>
            <a:off x="2860560" y="352440"/>
            <a:ext cx="455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71"/>
          <p:cNvSpPr/>
          <p:nvPr/>
        </p:nvSpPr>
        <p:spPr>
          <a:xfrm>
            <a:off x="2335320" y="476280"/>
            <a:ext cx="48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4"/>
          <p:cNvGraphicFramePr/>
          <p:nvPr/>
        </p:nvGraphicFramePr>
        <p:xfrm>
          <a:off x="360360" y="331920"/>
          <a:ext cx="8718480" cy="718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0360" y="331920"/>
                    <a:ext cx="8718480" cy="71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452520" y="433440"/>
          <a:ext cx="8413560" cy="59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433440"/>
                    <a:ext cx="8413560" cy="59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4"/>
          <p:cNvGraphicFramePr/>
          <p:nvPr/>
        </p:nvGraphicFramePr>
        <p:xfrm>
          <a:off x="684360" y="544680"/>
          <a:ext cx="6962760" cy="577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544680"/>
                    <a:ext cx="6962760" cy="57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4"/>
          <p:cNvGraphicFramePr/>
          <p:nvPr/>
        </p:nvGraphicFramePr>
        <p:xfrm>
          <a:off x="711360" y="590400"/>
          <a:ext cx="7453080" cy="578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590400"/>
                    <a:ext cx="7453080" cy="578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4"/>
          <p:cNvGraphicFramePr/>
          <p:nvPr/>
        </p:nvGraphicFramePr>
        <p:xfrm>
          <a:off x="314280" y="304920"/>
          <a:ext cx="8755200" cy="656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304920"/>
                    <a:ext cx="8755200" cy="656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Object 4"/>
          <p:cNvGraphicFramePr/>
          <p:nvPr/>
        </p:nvGraphicFramePr>
        <p:xfrm>
          <a:off x="396720" y="258840"/>
          <a:ext cx="8239320" cy="741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258840"/>
                    <a:ext cx="8239320" cy="74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704880" y="581040"/>
          <a:ext cx="797868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581040"/>
                    <a:ext cx="797868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379440" y="295200"/>
          <a:ext cx="8515440" cy="6262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440" y="295200"/>
                    <a:ext cx="8515440" cy="626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554040" y="387360"/>
          <a:ext cx="8183520" cy="621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040" y="387360"/>
                    <a:ext cx="8183520" cy="62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85800" y="1981080"/>
          <a:ext cx="7918560" cy="4145040"/>
        </p:xfrm>
        <a:graphic>
          <a:graphicData uri="http://schemas.openxmlformats.org/drawingml/2006/table">
            <a:tbl>
              <a:tblPr/>
              <a:tblGrid>
                <a:gridCol w="501480"/>
                <a:gridCol w="2160720"/>
                <a:gridCol w="1079640"/>
                <a:gridCol w="215640"/>
                <a:gridCol w="649440"/>
                <a:gridCol w="2158920"/>
                <a:gridCol w="1152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e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e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 n&lt;=30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 n&lt;=30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5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 n&lt;=30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1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 n&lt;=30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3"/>
          <p:cNvGraphicFramePr/>
          <p:nvPr/>
        </p:nvGraphicFramePr>
        <p:xfrm>
          <a:off x="533520" y="838080"/>
          <a:ext cx="8259480" cy="547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838080"/>
                    <a:ext cx="8259480" cy="54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4"/>
          <p:cNvGraphicFramePr/>
          <p:nvPr/>
        </p:nvGraphicFramePr>
        <p:xfrm>
          <a:off x="387360" y="442800"/>
          <a:ext cx="8543880" cy="691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7360" y="442800"/>
                    <a:ext cx="8543880" cy="691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503280" y="533520"/>
          <a:ext cx="8259840" cy="5775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3280" y="533520"/>
                    <a:ext cx="8259840" cy="57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868320" y="573120"/>
          <a:ext cx="7712280" cy="547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8320" y="573120"/>
                    <a:ext cx="7712280" cy="54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13:00:51Z</dcterms:created>
  <dc:creator>J.A. Pino</dc:creator>
  <dc:description/>
  <dc:language>en-US</dc:language>
  <cp:lastModifiedBy>jpino</cp:lastModifiedBy>
  <cp:lastPrinted>2005-01-12T14:41:26Z</cp:lastPrinted>
  <dcterms:modified xsi:type="dcterms:W3CDTF">2011-03-18T18:20:59Z</dcterms:modified>
  <cp:revision>73</cp:revision>
  <dc:subject/>
  <dc:title>clase 4</dc:title>
</cp:coreProperties>
</file>