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179597-A318-40B6-8D57-ECFB562D58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64918F-DD58-4D90-9995-3DFC421BFE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E5A6E1-5C6B-4778-9594-FBFBE638CB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29B13A-48BD-4A4F-B8B3-7112698BA8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EBC-F88A-4AEE-A413-220D31B0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40C-CDCD-4205-9DEE-EC205C9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174-A59E-485D-8983-F3DD404F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6CA-913B-48FD-8908-54A04872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1D3-8C65-443D-8243-387A602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87B-4BDD-42D5-89DC-80361A1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EF7-7F92-4C01-A65F-85DC1EA8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76E-33F9-49CC-8D35-FCE0DE7A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A61-037C-4069-8F80-797C79C3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79E-4880-4D96-A065-E811F00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952-935C-46EC-AF9C-EB1F116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742-148F-48A3-9DA6-3C651A6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13A-9803-4D01-9B7E-148ADC6DF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33520" y="838080"/>
          <a:ext cx="8259480" cy="54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2594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3280" y="533520"/>
          <a:ext cx="825984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533520"/>
                    <a:ext cx="825984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.A. Pino</dc:creator>
  <dc:description/>
  <dc:language>en-US</dc:language>
  <cp:lastModifiedBy>jpino</cp:lastModifiedBy>
  <cp:lastPrinted>2005-01-12T14:41:26Z</cp:lastPrinted>
  <dcterms:modified xsi:type="dcterms:W3CDTF">2011-03-18T18:20:59Z</dcterms:modified>
  <cp:revision>73</cp:revision>
  <dc:subject/>
  <dc:title>clase 4</dc:title>
</cp:coreProperties>
</file>