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623E-0A63-453E-AA5E-210AA845A5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B85-28F8-42E3-9EF8-57F609FD040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8B21-71AB-4EDF-B722-77C3CBBCAF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8B0-6C51-4EB2-8336-DDAEFC1DAC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58E-65B0-4777-B195-C58AD96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283-6BCF-4A4A-99D8-DA1E8C6A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A15-E014-470F-8352-9BE54A50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F58-54CC-40EE-BE06-3115E430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6AB-1185-4040-9248-8E4FD47E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84C-088D-4F8F-876D-228554E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9BC-4F5E-4E3D-965C-D634BFEC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87E-1538-4370-94A6-4345CAE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90C-CAC0-49FC-9315-AC310C6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336-29EE-4D7D-B0F8-999859E2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309-6859-4AC8-91F2-2E3FE01C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EE2-11D9-4886-BBBD-491BE46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BA2-4EE8-4440-80B8-0E1CB0741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533520" y="258840"/>
          <a:ext cx="7650000" cy="65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8840"/>
                    <a:ext cx="7650000" cy="65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.A. Pino</dc:creator>
  <dc:description/>
  <dc:language>en-US</dc:language>
  <cp:lastModifiedBy>jpino</cp:lastModifiedBy>
  <cp:lastPrinted>2006-03-17T17:08:51Z</cp:lastPrinted>
  <dcterms:modified xsi:type="dcterms:W3CDTF">2011-03-17T15:42:10Z</dcterms:modified>
  <cp:revision>61</cp:revision>
  <dc:subject/>
  <dc:title>Sin título de diapositiva</dc:title>
</cp:coreProperties>
</file>