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10A3-5579-4BD2-AFBF-3B3F772380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FEB2-386D-4C49-B01C-88F95F986A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664A-7643-4F54-BAE8-E3E03EF1FC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51CF-69C1-44C2-8FF6-80E447D237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AD3-EAE5-4D4A-BCB1-BA98D07D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573-8E87-42E9-B29A-718FD588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A44-433A-4233-B410-829EBE6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EEE-001E-4A8E-85B7-B3ABE4C2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7F3-A2A3-4148-98E7-6F908F7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67B-91FF-440B-AEF6-851D933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C58-2600-4DB3-9500-11BD5A0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C80-283C-4B71-B7CE-18297B4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047-72FE-4226-8D17-07C5405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F0B-8A35-4152-AE6E-40524B2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C73-828B-4EC9-B810-36A69662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059-0E37-4475-B5D8-4D8D7A3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52D-0D65-4B5A-A096-20D9CE45C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533520" y="258840"/>
          <a:ext cx="7650000" cy="65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8840"/>
                    <a:ext cx="7650000" cy="65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.A. Pino</dc:creator>
  <dc:description/>
  <dc:language>en-US</dc:language>
  <cp:lastModifiedBy>jpino</cp:lastModifiedBy>
  <cp:lastPrinted>2006-03-17T17:08:51Z</cp:lastPrinted>
  <dcterms:modified xsi:type="dcterms:W3CDTF">2011-03-17T15:42:10Z</dcterms:modified>
  <cp:revision>61</cp:revision>
  <dc:subject/>
  <dc:title>Sin título de diapositiva</dc:title>
</cp:coreProperties>
</file>