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664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3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6640"/>
            <a:ext cx="29397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C996-752A-4EA9-A504-B6933469E0F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4 Marcador de pie de página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3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5 Marcador de número de diapositiva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7741-9A65-4475-B197-E00BA59C65D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3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5254-FFE8-4006-8BFA-A718AA392B4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3: instrucción 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938700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3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841920" y="9387000"/>
            <a:ext cx="29397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9DF1-581A-4308-BE69-6F45EE33582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7196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E555-2E5D-46DE-B60D-E3A02E5F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122-55DD-464C-8DD0-08A3583D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0BC-BA20-48EE-8988-89BDCF63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AFD4-746B-4024-BFD0-17CE15D4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34F3-F435-438F-A7AB-3E24B3FE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D94E-0CEA-4142-BD1C-5F711EDF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574-6D3A-4AA6-8D77-33DA4F30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179F-219B-456D-8F75-5440000A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012-B219-4CC8-B142-9BE12334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F915-E0D6-4160-9D32-7F2EB6F9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320-7D72-43A1-9D78-B33B43BB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997-DD45-4141-878F-39DCA1EA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2B86-39E1-4971-9017-35FAB24F2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533520" y="258840"/>
          <a:ext cx="7650000" cy="65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8840"/>
                    <a:ext cx="7650000" cy="65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Line 5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563400" y="396720"/>
          <a:ext cx="795204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396720"/>
                    <a:ext cx="795204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96800" y="701640"/>
          <a:ext cx="84250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701640"/>
                    <a:ext cx="84250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701640" y="461880"/>
          <a:ext cx="7897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61880"/>
                    <a:ext cx="7897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711360" y="433440"/>
          <a:ext cx="7804080" cy="69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33440"/>
                    <a:ext cx="780408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.A. Pino</dc:creator>
  <dc:description/>
  <dc:language>en-US</dc:language>
  <cp:lastModifiedBy>jpino</cp:lastModifiedBy>
  <cp:lastPrinted>2006-03-17T17:08:51Z</cp:lastPrinted>
  <dcterms:modified xsi:type="dcterms:W3CDTF">2011-03-17T15:42:10Z</dcterms:modified>
  <cp:revision>61</cp:revision>
  <dc:subject/>
  <dc:title>Sin título de diapositiva</dc:title>
</cp:coreProperties>
</file>