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EB28-10A2-4A8F-A850-AE3A3AC7D4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D068-AA92-46C7-A56F-CDBCE759A6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0F62-BB91-485E-A8CD-02D73D6205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B55-A273-4DFF-A862-DED76AAE7F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4E8-304F-4DAE-B0C4-B54E0BE4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DB0-82C7-4490-9F39-1F369D9D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1B0-4547-41BE-8645-710B9F65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4CD-1525-43E7-A967-AD339116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487-9706-4EF9-8094-2E73FC56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FC7-A438-4EF2-82C3-D963AD25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EA5-D994-48AC-A55E-31B80433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879-E015-4AA2-A3A1-32F76B6C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D21-B2B2-4E55-9586-2E5054A2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FD5-D941-4AC4-8574-5770AB9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43A-4CDB-4559-9EC9-70B6891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E00-B756-4444-B423-A4B20977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6B82-45CB-4F13-8C53-BFA421068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Escribir un programa que lea un número entero de dos dígitos, y escriba como resultado el número in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pecíficamente el diálog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gresar un 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o de 2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tido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8360" y="182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2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.A. Pino</dc:creator>
  <dc:description/>
  <dc:language>en-US</dc:language>
  <cp:lastModifiedBy>jpino</cp:lastModifiedBy>
  <cp:lastPrinted>2006-03-14T15:11:26Z</cp:lastPrinted>
  <dcterms:modified xsi:type="dcterms:W3CDTF">2011-03-09T19:07:20Z</dcterms:modified>
  <cp:revision>81</cp:revision>
  <dc:subject/>
  <dc:title>Sin título de diapositiva</dc:title>
</cp:coreProperties>
</file>