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39440"/>
            <a:ext cx="4941720" cy="370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EE6A-BB14-4813-BED4-B60DBB4F62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8559-D111-4EAE-97C1-D9992C82E8E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3 Marcador de encabezado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4 Marcador de pie de página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5 Marcador de número de diapositiva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D478-614E-4AD6-95A8-6F52D9BFE56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AA20-EF68-4A64-A3B3-DE6BEBC171C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DBA5-C58F-4C81-9864-3B9DC36B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D3CC-D243-482F-BC3B-E96B435A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D060-B855-45FC-A4D2-D1D00E9D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6945-7D8E-4C8B-B4ED-5F909ED6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3732-F043-4119-B640-E4B24C36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5B24-40B1-491E-9997-8E60FC7A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CC3C-1DFE-4E50-83FE-D89AA622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1497-931D-421B-8BB7-78B8AB0A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CEBA-7FE6-4E3C-9AA5-CABCB931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12A9-1614-4CAB-8D5B-2BBD884E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A522-F2A9-4592-8391-E67CC9CB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4B2A-249F-48F3-8C72-D75BC99D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4754-FA1F-4674-8C7C-4933C668F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79280" y="333360"/>
            <a:ext cx="896472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Escribir un programa que lea un número entero de dos dígitos, y escriba como resultado el número invert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specíficamente el diálogo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gresar un 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o de 2 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ertido= 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318960" y="406440"/>
          <a:ext cx="905688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5688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4"/>
          <p:cNvGraphicFramePr/>
          <p:nvPr/>
        </p:nvGraphicFramePr>
        <p:xfrm>
          <a:off x="623880" y="550800"/>
          <a:ext cx="8505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505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420840" y="507960"/>
          <a:ext cx="841824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07960"/>
                    <a:ext cx="84182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perímetro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área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 programa que obtenga el lado de un cuadrado y use las funciones anteriores para calcular el área y el perímetro del siguiente anil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do del cuadrado?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294406880" tIns="36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1187280" y="3213000"/>
            <a:ext cx="5372280" cy="2400480"/>
            <a:chOff x="1187280" y="3213000"/>
            <a:chExt cx="5372280" cy="2400480"/>
          </a:xfrm>
        </p:grpSpPr>
        <p:sp>
          <p:nvSpPr>
            <p:cNvPr id="75" name="AutoShape 8"/>
            <p:cNvSpPr/>
            <p:nvPr/>
          </p:nvSpPr>
          <p:spPr>
            <a:xfrm>
              <a:off x="1187280" y="3213000"/>
              <a:ext cx="5372280" cy="24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7"/>
            <p:cNvSpPr/>
            <p:nvPr/>
          </p:nvSpPr>
          <p:spPr>
            <a:xfrm>
              <a:off x="2901960" y="3441600"/>
              <a:ext cx="194292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6"/>
            <p:cNvSpPr/>
            <p:nvPr/>
          </p:nvSpPr>
          <p:spPr>
            <a:xfrm>
              <a:off x="3244320" y="3670200"/>
              <a:ext cx="1257840" cy="13719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5"/>
            <p:cNvSpPr/>
            <p:nvPr/>
          </p:nvSpPr>
          <p:spPr>
            <a:xfrm>
              <a:off x="3244320" y="3670200"/>
              <a:ext cx="1257840" cy="137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10"/>
          <p:cNvSpPr/>
          <p:nvPr/>
        </p:nvSpPr>
        <p:spPr>
          <a:xfrm>
            <a:off x="6858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318960" y="406440"/>
          <a:ext cx="901404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1404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250920" y="48600"/>
            <a:ext cx="84754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ograma: calcula area y perimetro de a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obtener lado del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lado cuadrad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valores de los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a/2.0 #radio del círculo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math.sqrt(2)*a/2 #radio del círcul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y mostrar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area(R)-area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perimetro(R)+perimetro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del programa es distinta del parámetro r de las funciones (que “mueren” al terminar la fun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(con minúscula) es distinta de R (con mayúsc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68360" y="182520"/>
          <a:ext cx="8331120" cy="667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2520"/>
                    <a:ext cx="833112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711360" y="739800"/>
          <a:ext cx="7924680" cy="52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9800"/>
                    <a:ext cx="792468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539640" y="620640"/>
          <a:ext cx="840420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84042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623880" y="550800"/>
          <a:ext cx="822960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2296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682560" y="479520"/>
          <a:ext cx="796788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79520"/>
                    <a:ext cx="79678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4"/>
          <p:cNvGraphicFramePr/>
          <p:nvPr/>
        </p:nvGraphicFramePr>
        <p:xfrm>
          <a:off x="668160" y="479520"/>
          <a:ext cx="833148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33148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581040" y="479520"/>
          <a:ext cx="8447040" cy="67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447040" cy="67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668160" y="479520"/>
          <a:ext cx="825840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25840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.A. Pino</dc:creator>
  <dc:description/>
  <dc:language>en-US</dc:language>
  <cp:lastModifiedBy>jpino</cp:lastModifiedBy>
  <cp:lastPrinted>2006-03-14T15:11:26Z</cp:lastPrinted>
  <dcterms:modified xsi:type="dcterms:W3CDTF">2011-03-09T19:07:20Z</dcterms:modified>
  <cp:revision>81</cp:revision>
  <dc:subject/>
  <dc:title>Sin título de diapositiva</dc:title>
</cp:coreProperties>
</file>