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39440"/>
            <a:ext cx="49417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6AC1-F613-4088-94E2-F9F509B0B2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E2FD-E06F-4203-A239-D77430DE6B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3 Marcador de encabezado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5 Marcador de número de diapositiva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CFF8-61F1-4148-97DA-CB19C600A2D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1E84-0E92-4651-8154-B4D61AC4AF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5D0-DB72-4DC2-A29B-1F529F56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DDC9-3AB4-4702-B34E-4549B427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F213-E5CD-4D60-AD88-1C362236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9EF-A44D-44E1-8B52-FD29F5DD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BB1F-6487-46E8-B959-BE8137BB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C67-F9E4-4A2D-94DB-ABE513BF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416-0667-476E-8871-77B947E7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B89-BEB5-455B-BFAA-1905E14C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B49-2FBA-4743-8EA3-7C73E48A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38C9-C1A5-4E4D-81E0-C54DEBD1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137-B8F3-4181-9C9C-6CD880D7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95A-664C-45D3-81CD-AAAFBB85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F32B-05C1-4104-B620-78CAEA521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79280" y="333360"/>
            <a:ext cx="896472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Escribir un programa que lea un número entero de dos dígitos, y escriba como resultado el número invert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specíficamente el diálogo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gresar un 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o de 2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ertido=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1187280" y="3213000"/>
            <a:ext cx="5372280" cy="2400480"/>
            <a:chOff x="1187280" y="3213000"/>
            <a:chExt cx="5372280" cy="2400480"/>
          </a:xfrm>
        </p:grpSpPr>
        <p:sp>
          <p:nvSpPr>
            <p:cNvPr id="75" name="AutoShape 8"/>
            <p:cNvSpPr/>
            <p:nvPr/>
          </p:nvSpPr>
          <p:spPr>
            <a:xfrm>
              <a:off x="1187280" y="3213000"/>
              <a:ext cx="5372280" cy="24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7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6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5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10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250920" y="4860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68360" y="182520"/>
          <a:ext cx="83311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2520"/>
                    <a:ext cx="83311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.A. Pino</dc:creator>
  <dc:description/>
  <dc:language>en-US</dc:language>
  <cp:lastModifiedBy>jpino</cp:lastModifiedBy>
  <cp:lastPrinted>2006-03-14T15:11:26Z</cp:lastPrinted>
  <dcterms:modified xsi:type="dcterms:W3CDTF">2011-03-09T19:07:20Z</dcterms:modified>
  <cp:revision>81</cp:revision>
  <dc:subject/>
  <dc:title>Sin título de diapositiva</dc:title>
</cp:coreProperties>
</file>