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39440"/>
            <a:ext cx="49417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933A-043E-4198-848F-5C062994F59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D5DF-742A-4016-92EB-33A6AFE57D6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3 Marcador de encabezado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4 Marcador de pie de página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5 Marcador de número de diapositiva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0D2C-4B27-4ED8-A9B9-BAF73D8CC91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Fun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2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BCE4-376B-48C0-9579-B236CB04673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692600"/>
            <a:ext cx="542304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B37-149C-46E4-9770-AB9665DA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E6E2-B3E3-4735-8B46-CA12970F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F67A-2C87-4D47-8737-CC983759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3D5A-E901-47AE-BEAC-81D230B92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D2C8-4150-42BC-8CCE-0424205C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720-AEF8-4D6D-8DB3-A0885B25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F9D8-403E-4C99-8CB0-AD6DDD30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D164-DD9C-4079-AFC8-B1960EFF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854C-3053-466A-9571-976F939E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1326-4D0A-46AC-BBE0-FC427CE1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8174-4CF1-43FF-AC9D-2BAEFDBC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2656-9CA6-49B0-BADD-8F04F8D5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1A4E-35FC-4D21-81F2-09CF676E2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79280" y="333360"/>
            <a:ext cx="896472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 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Escribir un programa que lea un número entero de dos dígitos, y escriba como resultado el número invert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specíficamente el diálogo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gresar un 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o de 2 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ertido= 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4"/>
          <p:cNvGraphicFramePr/>
          <p:nvPr/>
        </p:nvGraphicFramePr>
        <p:xfrm>
          <a:off x="318960" y="406440"/>
          <a:ext cx="9056880" cy="47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5688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4"/>
          <p:cNvGraphicFramePr/>
          <p:nvPr/>
        </p:nvGraphicFramePr>
        <p:xfrm>
          <a:off x="623880" y="550800"/>
          <a:ext cx="8505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505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420840" y="507960"/>
          <a:ext cx="841824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07960"/>
                    <a:ext cx="84182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jerc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perímetro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a función que reciba el radio y entregue el área de un círc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cribir un programa que obtenga el lado de un cuadrado y use las funciones anteriores para calcular el área y el perímetro del siguiente anil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do del cuadrado?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29440688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1187280" y="3213000"/>
            <a:ext cx="5372280" cy="2400480"/>
            <a:chOff x="1187280" y="3213000"/>
            <a:chExt cx="5372280" cy="2400480"/>
          </a:xfrm>
        </p:grpSpPr>
        <p:sp>
          <p:nvSpPr>
            <p:cNvPr id="75" name="AutoShape 8"/>
            <p:cNvSpPr/>
            <p:nvPr/>
          </p:nvSpPr>
          <p:spPr>
            <a:xfrm>
              <a:off x="1187280" y="3213000"/>
              <a:ext cx="5372280" cy="24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7"/>
            <p:cNvSpPr/>
            <p:nvPr/>
          </p:nvSpPr>
          <p:spPr>
            <a:xfrm>
              <a:off x="2901960" y="3441600"/>
              <a:ext cx="194292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6"/>
            <p:cNvSpPr/>
            <p:nvPr/>
          </p:nvSpPr>
          <p:spPr>
            <a:xfrm>
              <a:off x="3244320" y="3670200"/>
              <a:ext cx="1257840" cy="13719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5"/>
            <p:cNvSpPr/>
            <p:nvPr/>
          </p:nvSpPr>
          <p:spPr>
            <a:xfrm>
              <a:off x="3244320" y="3670200"/>
              <a:ext cx="1257840" cy="137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10"/>
          <p:cNvSpPr/>
          <p:nvPr/>
        </p:nvSpPr>
        <p:spPr>
          <a:xfrm>
            <a:off x="68580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318960" y="406440"/>
          <a:ext cx="9014040" cy="506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406440"/>
                    <a:ext cx="901404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250920" y="48600"/>
            <a:ext cx="847548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programa: calcula area y perimetro de an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obtener lado del cuad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input(“lado cuadrad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valores de los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a/2.0 #radio del círculo me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math.sqrt(2)*a/2 #radio del círculo may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ar y mostrar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área=“, area(R)-area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“perímetro=”, perimetro(R)+perimetro(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del programa es distinta del parámetro r de las funciones (que “mueren” al terminar la funció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r (con minúscula) es distinta de R (con mayúscu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68360" y="182520"/>
          <a:ext cx="833112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2520"/>
                    <a:ext cx="833112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711360" y="739800"/>
          <a:ext cx="7924680" cy="528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9800"/>
                    <a:ext cx="7924680" cy="52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539640" y="620640"/>
          <a:ext cx="8404200" cy="56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620640"/>
                    <a:ext cx="840420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623880" y="550800"/>
          <a:ext cx="8229600" cy="55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550800"/>
                    <a:ext cx="822960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682560" y="479520"/>
          <a:ext cx="7967880" cy="64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479520"/>
                    <a:ext cx="7967880" cy="64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668160" y="479520"/>
          <a:ext cx="8331480" cy="642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331480" cy="64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581040" y="479520"/>
          <a:ext cx="8447040" cy="67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79520"/>
                    <a:ext cx="8447040" cy="67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4"/>
          <p:cNvGraphicFramePr/>
          <p:nvPr/>
        </p:nvGraphicFramePr>
        <p:xfrm>
          <a:off x="668160" y="479520"/>
          <a:ext cx="8258400" cy="602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79520"/>
                    <a:ext cx="8258400" cy="60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.A. Pino</dc:creator>
  <dc:description/>
  <dc:language>en-US</dc:language>
  <cp:lastModifiedBy>jpino</cp:lastModifiedBy>
  <cp:lastPrinted>2006-03-14T15:11:26Z</cp:lastPrinted>
  <dcterms:modified xsi:type="dcterms:W3CDTF">2011-03-09T19:07:20Z</dcterms:modified>
  <cp:revision>81</cp:revision>
  <dc:subject/>
  <dc:title>Sin título de diapositiva</dc:title>
</cp:coreProperties>
</file>