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588A-80D4-4B2B-B5FF-8CBE806C26C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B954-68CA-43C5-8AB0-4F9A6F719FC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3488-BC20-42FF-852F-8072FC73607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FC77-5C2C-418D-89F1-4983CE6AC5E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699A-6AD8-417C-8915-482C523F01E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B009-AC7B-456A-BDC7-DA0EC1C8213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FA3E-FD27-48C0-810C-C0EE211A3BC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76C6-8C38-4329-A938-13CCA158462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E109-1BCE-4737-828D-A327618EF19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B705-8F26-4377-A5C7-334E5E08A83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86C2-5B71-4A57-90FA-B240D021AB3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5B91-4B0A-4BF2-AD0E-492F4373073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EF7-853E-45B2-8741-CD199C1E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DDC3-2E9F-44AF-9250-F040E6AF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565C-5450-4AC0-AD10-F39AED5F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D67-183D-43C6-888A-11C01AF9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834C-6849-45E6-9D60-FCB51504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888-658E-498E-B619-343262C8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44F-E0F2-4150-8B50-70138AAA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59B-6B70-49FE-836D-D889FE70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954-FC52-444B-A78E-728EEFA8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87FA-D581-4FC4-A7AD-587817C9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C729-C636-4E80-AA34-80CC40B8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666-F181-4680-9B93-DF1AF55A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69BD-D3CE-4F10-AFEF-A4BBA04809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93560"/>
          <a:ext cx="829152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29152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42652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2652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69800" y="482760"/>
          <a:ext cx="856296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6296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514000" cy="70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79280" y="473040"/>
            <a:ext cx="8640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526240" cy="65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26240" cy="65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17400" y="531720"/>
          <a:ext cx="8317080" cy="821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17080" cy="821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.A. Pino</dc:creator>
  <dc:description/>
  <dc:language>en-US</dc:language>
  <cp:lastModifiedBy>jpino</cp:lastModifiedBy>
  <cp:lastPrinted>2006-03-07T16:10:21Z</cp:lastPrinted>
  <dcterms:modified xsi:type="dcterms:W3CDTF">2011-03-07T15:11:28Z</dcterms:modified>
  <cp:revision>98</cp:revision>
  <dc:subject/>
  <dc:title>Sin título de diapositiva</dc:title>
</cp:coreProperties>
</file>